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948120" y="278640"/>
            <a:ext cx="2795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通常はがきサイズ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 仕上がりサイズ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 × 148 mm 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3"/>
          <p:cNvGrpSpPr/>
          <p:nvPr/>
        </p:nvGrpSpPr>
        <p:grpSpPr>
          <a:xfrm>
            <a:off x="3440160" y="1007640"/>
            <a:ext cx="3814560" cy="5543640"/>
            <a:chOff x="3440160" y="1007640"/>
            <a:chExt cx="3814560" cy="5543640"/>
          </a:xfrm>
        </p:grpSpPr>
        <p:sp>
          <p:nvSpPr>
            <p:cNvPr id="2" name="正方形/長方形 40"/>
            <p:cNvSpPr/>
            <p:nvPr/>
          </p:nvSpPr>
          <p:spPr>
            <a:xfrm rot="16200000">
              <a:off x="2683080" y="1980000"/>
              <a:ext cx="5328000" cy="35989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43"/>
            <p:cNvSpPr/>
            <p:nvPr/>
          </p:nvSpPr>
          <p:spPr>
            <a:xfrm rot="16200000">
              <a:off x="2791080" y="2088000"/>
              <a:ext cx="5112000" cy="33829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4"/>
            <p:cNvSpPr/>
            <p:nvPr/>
          </p:nvSpPr>
          <p:spPr>
            <a:xfrm rot="16200000">
              <a:off x="2575440" y="1872000"/>
              <a:ext cx="5543640" cy="381456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3"/>
          <p:cNvGrpSpPr/>
          <p:nvPr/>
        </p:nvGrpSpPr>
        <p:grpSpPr>
          <a:xfrm>
            <a:off x="3090960" y="660240"/>
            <a:ext cx="4511160" cy="6238800"/>
            <a:chOff x="3090960" y="660240"/>
            <a:chExt cx="4511160" cy="6238800"/>
          </a:xfrm>
        </p:grpSpPr>
        <p:grpSp>
          <p:nvGrpSpPr>
            <p:cNvPr id="6" name="グループ化 2"/>
            <p:cNvGrpSpPr/>
            <p:nvPr/>
          </p:nvGrpSpPr>
          <p:grpSpPr>
            <a:xfrm>
              <a:off x="3090960" y="660240"/>
              <a:ext cx="4511160" cy="460440"/>
              <a:chOff x="3090960" y="660240"/>
              <a:chExt cx="4511160" cy="460440"/>
            </a:xfrm>
          </p:grpSpPr>
          <p:grpSp>
            <p:nvGrpSpPr>
              <p:cNvPr id="7" name="グループ化 8"/>
              <p:cNvGrpSpPr/>
              <p:nvPr/>
            </p:nvGrpSpPr>
            <p:grpSpPr>
              <a:xfrm>
                <a:off x="3090960" y="669600"/>
                <a:ext cx="460080" cy="438480"/>
                <a:chOff x="3090960" y="669600"/>
                <a:chExt cx="460080" cy="438480"/>
              </a:xfrm>
            </p:grpSpPr>
            <p:sp>
              <p:nvSpPr>
                <p:cNvPr id="8" name="フリーフォーム 46"/>
                <p:cNvSpPr/>
                <p:nvPr/>
              </p:nvSpPr>
              <p:spPr>
                <a:xfrm>
                  <a:off x="3090960" y="671040"/>
                  <a:ext cx="460080" cy="3322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フリーフォーム 47"/>
                <p:cNvSpPr/>
                <p:nvPr/>
              </p:nvSpPr>
              <p:spPr>
                <a:xfrm>
                  <a:off x="3090960" y="669600"/>
                  <a:ext cx="344520" cy="4384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グループ化 8"/>
              <p:cNvGrpSpPr/>
              <p:nvPr/>
            </p:nvGrpSpPr>
            <p:grpSpPr>
              <a:xfrm>
                <a:off x="7164000" y="660240"/>
                <a:ext cx="438120" cy="460440"/>
                <a:chOff x="7164000" y="660240"/>
                <a:chExt cx="438120" cy="460440"/>
              </a:xfrm>
            </p:grpSpPr>
            <p:sp>
              <p:nvSpPr>
                <p:cNvPr id="11" name="フリーフォーム 50"/>
                <p:cNvSpPr/>
                <p:nvPr/>
              </p:nvSpPr>
              <p:spPr>
                <a:xfrm rot="5400000">
                  <a:off x="7191720" y="724320"/>
                  <a:ext cx="46044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フリーフォーム 52"/>
                <p:cNvSpPr/>
                <p:nvPr/>
              </p:nvSpPr>
              <p:spPr>
                <a:xfrm rot="5400000">
                  <a:off x="7210800" y="613440"/>
                  <a:ext cx="344520" cy="4381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" name="グループ化 12"/>
            <p:cNvGrpSpPr/>
            <p:nvPr/>
          </p:nvGrpSpPr>
          <p:grpSpPr>
            <a:xfrm>
              <a:off x="3106800" y="3350160"/>
              <a:ext cx="304560" cy="858960"/>
              <a:chOff x="3106800" y="3350160"/>
              <a:chExt cx="304560" cy="858960"/>
            </a:xfrm>
          </p:grpSpPr>
          <p:sp>
            <p:nvSpPr>
              <p:cNvPr id="14" name="直線コネクタ 60"/>
              <p:cNvSpPr/>
              <p:nvPr/>
            </p:nvSpPr>
            <p:spPr>
              <a:xfrm>
                <a:off x="3333600" y="3350160"/>
                <a:ext cx="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61"/>
              <p:cNvSpPr/>
              <p:nvPr/>
            </p:nvSpPr>
            <p:spPr>
              <a:xfrm flipH="1">
                <a:off x="3106800" y="3776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7280280" y="3350160"/>
              <a:ext cx="304560" cy="858960"/>
              <a:chOff x="7280280" y="3350160"/>
              <a:chExt cx="304560" cy="858960"/>
            </a:xfrm>
          </p:grpSpPr>
          <p:sp>
            <p:nvSpPr>
              <p:cNvPr id="17" name="直線コネクタ 63"/>
              <p:cNvSpPr/>
              <p:nvPr/>
            </p:nvSpPr>
            <p:spPr>
              <a:xfrm flipV="1">
                <a:off x="7356240" y="3350160"/>
                <a:ext cx="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64"/>
              <p:cNvSpPr/>
              <p:nvPr/>
            </p:nvSpPr>
            <p:spPr>
              <a:xfrm>
                <a:off x="7280280" y="3790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65"/>
            <p:cNvGrpSpPr/>
            <p:nvPr/>
          </p:nvGrpSpPr>
          <p:grpSpPr>
            <a:xfrm>
              <a:off x="3090960" y="6438600"/>
              <a:ext cx="4511160" cy="460440"/>
              <a:chOff x="3090960" y="6438600"/>
              <a:chExt cx="4511160" cy="460440"/>
            </a:xfrm>
          </p:grpSpPr>
          <p:grpSp>
            <p:nvGrpSpPr>
              <p:cNvPr id="20" name="グループ化 8"/>
              <p:cNvGrpSpPr/>
              <p:nvPr/>
            </p:nvGrpSpPr>
            <p:grpSpPr>
              <a:xfrm>
                <a:off x="3090960" y="6451200"/>
                <a:ext cx="460080" cy="438480"/>
                <a:chOff x="3090960" y="6451200"/>
                <a:chExt cx="460080" cy="438480"/>
              </a:xfrm>
            </p:grpSpPr>
            <p:sp>
              <p:nvSpPr>
                <p:cNvPr id="21" name="フリーフォーム 70"/>
                <p:cNvSpPr/>
                <p:nvPr/>
              </p:nvSpPr>
              <p:spPr>
                <a:xfrm flipV="1">
                  <a:off x="3090960" y="6555600"/>
                  <a:ext cx="460080" cy="3322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フリーフォーム 71"/>
                <p:cNvSpPr/>
                <p:nvPr/>
              </p:nvSpPr>
              <p:spPr>
                <a:xfrm flipV="1">
                  <a:off x="3090960" y="6451200"/>
                  <a:ext cx="344520" cy="4384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" name="グループ化 8"/>
              <p:cNvGrpSpPr/>
              <p:nvPr/>
            </p:nvGrpSpPr>
            <p:grpSpPr>
              <a:xfrm>
                <a:off x="7164000" y="6438600"/>
                <a:ext cx="438120" cy="460440"/>
                <a:chOff x="7164000" y="6438600"/>
                <a:chExt cx="438120" cy="460440"/>
              </a:xfrm>
            </p:grpSpPr>
            <p:sp>
              <p:nvSpPr>
                <p:cNvPr id="24" name="フリーフォーム 68"/>
                <p:cNvSpPr/>
                <p:nvPr/>
              </p:nvSpPr>
              <p:spPr>
                <a:xfrm flipV="1" rot="16200000">
                  <a:off x="7197840" y="6502320"/>
                  <a:ext cx="46044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" name="フリーフォーム 69"/>
                <p:cNvSpPr/>
                <p:nvPr/>
              </p:nvSpPr>
              <p:spPr>
                <a:xfrm flipV="1" rot="16200000">
                  <a:off x="7210800" y="6501240"/>
                  <a:ext cx="344520" cy="4381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6" name="グループ化 5"/>
          <p:cNvGrpSpPr/>
          <p:nvPr/>
        </p:nvGrpSpPr>
        <p:grpSpPr>
          <a:xfrm>
            <a:off x="1495440" y="6946920"/>
            <a:ext cx="7378560" cy="550800"/>
            <a:chOff x="1495440" y="6946920"/>
            <a:chExt cx="7378560" cy="550800"/>
          </a:xfrm>
        </p:grpSpPr>
        <p:sp>
          <p:nvSpPr>
            <p:cNvPr id="27" name="正方形/長方形 3"/>
            <p:cNvSpPr/>
            <p:nvPr/>
          </p:nvSpPr>
          <p:spPr>
            <a:xfrm>
              <a:off x="1495440" y="6946920"/>
              <a:ext cx="44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正方形/長方形 3"/>
            <p:cNvSpPr/>
            <p:nvPr/>
          </p:nvSpPr>
          <p:spPr>
            <a:xfrm>
              <a:off x="5898960" y="6946920"/>
              <a:ext cx="297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66600" y="0"/>
            <a:ext cx="4144680" cy="519120"/>
          </a:xfrm>
          <a:prstGeom prst="rect">
            <a:avLst/>
          </a:prstGeom>
          <a:ln w="0">
            <a:noFill/>
          </a:ln>
        </p:spPr>
      </p:pic>
      <p:pic>
        <p:nvPicPr>
          <p:cNvPr id="30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61560" y="630360"/>
            <a:ext cx="41371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1:55:24Z</dcterms:modified>
  <cp:revision>31</cp:revision>
  <dc:subject/>
  <dc:title>PowerPoint プレゼンテーション</dc:title>
</cp:coreProperties>
</file>