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691813" cy="7559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3"/>
          <p:cNvSpPr/>
          <p:nvPr/>
        </p:nvSpPr>
        <p:spPr>
          <a:xfrm>
            <a:off x="4048200" y="661320"/>
            <a:ext cx="25956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0" rIns="50400" tIns="25200" bIns="25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1484280"/>
                <a:tab algn="r" pos="296856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  <a:tab algn="l" pos="10534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ポストカード：通常はがきサイズ</a:t>
            </a:r>
            <a:r>
              <a:rPr b="0" lang="en-US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lang="ja-JP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横</a:t>
            </a:r>
            <a:r>
              <a:rPr b="0" lang="en-US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1484280"/>
                <a:tab algn="r" pos="296856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  <a:tab algn="l" pos="10534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（ 仕上がりサイズ </a:t>
            </a:r>
            <a:r>
              <a:rPr b="0" lang="en-US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0 × 148mm</a:t>
            </a:r>
            <a:r>
              <a:rPr b="0" lang="ja-JP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" name="図形グループ 3"/>
          <p:cNvGrpSpPr/>
          <p:nvPr/>
        </p:nvGrpSpPr>
        <p:grpSpPr>
          <a:xfrm>
            <a:off x="2573280" y="1873080"/>
            <a:ext cx="5543640" cy="3814920"/>
            <a:chOff x="2573280" y="1873080"/>
            <a:chExt cx="5543640" cy="3814920"/>
          </a:xfrm>
        </p:grpSpPr>
        <p:sp>
          <p:nvSpPr>
            <p:cNvPr id="2" name="正方形/長方形 37"/>
            <p:cNvSpPr/>
            <p:nvPr/>
          </p:nvSpPr>
          <p:spPr>
            <a:xfrm>
              <a:off x="2680920" y="1980720"/>
              <a:ext cx="5328000" cy="359928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400" rIns="50400" tIns="25200" bIns="25200" anchor="ctr">
              <a:noAutofit/>
            </a:bodyPr>
            <a:p>
              <a:pPr>
                <a:tabLst>
                  <a:tab algn="l" pos="0"/>
                  <a:tab algn="l" pos="573120"/>
                  <a:tab algn="l" pos="1146240"/>
                  <a:tab algn="l" pos="1719360"/>
                  <a:tab algn="l" pos="2292480"/>
                  <a:tab algn="l" pos="2865600"/>
                  <a:tab algn="l" pos="3438360"/>
                  <a:tab algn="l" pos="4011480"/>
                  <a:tab algn="l" pos="4584600"/>
                  <a:tab algn="l" pos="5157720"/>
                  <a:tab algn="l" pos="5730840"/>
                  <a:tab algn="l" pos="6303960"/>
                  <a:tab algn="l" pos="6877080"/>
                  <a:tab algn="l" pos="7450200"/>
                  <a:tab algn="l" pos="8023320"/>
                  <a:tab algn="l" pos="8596440"/>
                  <a:tab algn="l" pos="9169560"/>
                  <a:tab algn="l" pos="9742320"/>
                  <a:tab algn="l" pos="10315440"/>
                  <a:tab algn="l" pos="1088856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" name="正方形/長方形 40"/>
            <p:cNvSpPr/>
            <p:nvPr/>
          </p:nvSpPr>
          <p:spPr>
            <a:xfrm>
              <a:off x="2788920" y="2088720"/>
              <a:ext cx="5112000" cy="338328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400" rIns="50400" tIns="25200" bIns="25200" anchor="ctr">
              <a:noAutofit/>
            </a:bodyPr>
            <a:p>
              <a:pPr>
                <a:tabLst>
                  <a:tab algn="l" pos="0"/>
                  <a:tab algn="l" pos="573120"/>
                  <a:tab algn="l" pos="1146240"/>
                  <a:tab algn="l" pos="1719360"/>
                  <a:tab algn="l" pos="2292480"/>
                  <a:tab algn="l" pos="2865600"/>
                  <a:tab algn="l" pos="3438360"/>
                  <a:tab algn="l" pos="4011480"/>
                  <a:tab algn="l" pos="4584600"/>
                  <a:tab algn="l" pos="5157720"/>
                  <a:tab algn="l" pos="5730840"/>
                  <a:tab algn="l" pos="6303960"/>
                  <a:tab algn="l" pos="6877080"/>
                  <a:tab algn="l" pos="7450200"/>
                  <a:tab algn="l" pos="8023320"/>
                  <a:tab algn="l" pos="8596440"/>
                  <a:tab algn="l" pos="9169560"/>
                  <a:tab algn="l" pos="9742320"/>
                  <a:tab algn="l" pos="10315440"/>
                  <a:tab algn="l" pos="1088856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正方形/長方形 43"/>
            <p:cNvSpPr/>
            <p:nvPr/>
          </p:nvSpPr>
          <p:spPr>
            <a:xfrm>
              <a:off x="2573280" y="1873080"/>
              <a:ext cx="5543640" cy="3814920"/>
            </a:xfrm>
            <a:prstGeom prst="rect">
              <a:avLst/>
            </a:prstGeom>
            <a:noFill/>
            <a:ln w="3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400" rIns="50400" tIns="25200" bIns="25200" anchor="ctr">
              <a:noAutofit/>
            </a:bodyPr>
            <a:p>
              <a:pPr>
                <a:tabLst>
                  <a:tab algn="l" pos="0"/>
                  <a:tab algn="l" pos="573120"/>
                  <a:tab algn="l" pos="1146240"/>
                  <a:tab algn="l" pos="1719360"/>
                  <a:tab algn="l" pos="2292480"/>
                  <a:tab algn="l" pos="2865600"/>
                  <a:tab algn="l" pos="3438360"/>
                  <a:tab algn="l" pos="4011480"/>
                  <a:tab algn="l" pos="4584600"/>
                  <a:tab algn="l" pos="5157720"/>
                  <a:tab algn="l" pos="5730840"/>
                  <a:tab algn="l" pos="6303960"/>
                  <a:tab algn="l" pos="6877080"/>
                  <a:tab algn="l" pos="7450200"/>
                  <a:tab algn="l" pos="8023320"/>
                  <a:tab algn="l" pos="8596440"/>
                  <a:tab algn="l" pos="9169560"/>
                  <a:tab algn="l" pos="9742320"/>
                  <a:tab algn="l" pos="10315440"/>
                  <a:tab algn="l" pos="1088856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" name="グループ化 6"/>
          <p:cNvGrpSpPr/>
          <p:nvPr/>
        </p:nvGrpSpPr>
        <p:grpSpPr>
          <a:xfrm>
            <a:off x="2227320" y="1528920"/>
            <a:ext cx="6243480" cy="4514400"/>
            <a:chOff x="2227320" y="1528920"/>
            <a:chExt cx="6243480" cy="4514400"/>
          </a:xfrm>
        </p:grpSpPr>
        <p:grpSp>
          <p:nvGrpSpPr>
            <p:cNvPr id="6" name="グループ化 3"/>
            <p:cNvGrpSpPr/>
            <p:nvPr/>
          </p:nvGrpSpPr>
          <p:grpSpPr>
            <a:xfrm>
              <a:off x="8010720" y="1528920"/>
              <a:ext cx="460080" cy="4514400"/>
              <a:chOff x="8010720" y="1528920"/>
              <a:chExt cx="460080" cy="4514400"/>
            </a:xfrm>
          </p:grpSpPr>
          <p:grpSp>
            <p:nvGrpSpPr>
              <p:cNvPr id="7" name="グループ化 8"/>
              <p:cNvGrpSpPr/>
              <p:nvPr/>
            </p:nvGrpSpPr>
            <p:grpSpPr>
              <a:xfrm>
                <a:off x="8025120" y="1528920"/>
                <a:ext cx="438120" cy="460440"/>
                <a:chOff x="8025120" y="1528920"/>
                <a:chExt cx="438120" cy="460440"/>
              </a:xfrm>
            </p:grpSpPr>
            <p:sp>
              <p:nvSpPr>
                <p:cNvPr id="8" name="フリーフォーム 65"/>
                <p:cNvSpPr/>
                <p:nvPr/>
              </p:nvSpPr>
              <p:spPr>
                <a:xfrm rot="5400000">
                  <a:off x="8051040" y="1593000"/>
                  <a:ext cx="460440" cy="331920"/>
                </a:xfrm>
                <a:custGeom>
                  <a:avLst/>
                  <a:gdLst/>
                  <a:ahLst/>
                  <a:rect l="l" t="t" r="r" b="b"/>
                  <a:pathLst>
                    <a:path w="434340" h="321945">
                      <a:moveTo>
                        <a:pt x="434340" y="0"/>
                      </a:moveTo>
                      <a:lnTo>
                        <a:pt x="434340" y="321945"/>
                      </a:lnTo>
                      <a:lnTo>
                        <a:pt x="0" y="321945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" name="フリーフォーム 66"/>
                <p:cNvSpPr/>
                <p:nvPr/>
              </p:nvSpPr>
              <p:spPr>
                <a:xfrm rot="5400000">
                  <a:off x="8071920" y="1482120"/>
                  <a:ext cx="344520" cy="438120"/>
                </a:xfrm>
                <a:custGeom>
                  <a:avLst/>
                  <a:gdLst/>
                  <a:ahLst/>
                  <a:rect l="l" t="t" r="r" b="b"/>
                  <a:pathLst>
                    <a:path w="434340" h="321945">
                      <a:moveTo>
                        <a:pt x="434340" y="0"/>
                      </a:moveTo>
                      <a:lnTo>
                        <a:pt x="434340" y="321945"/>
                      </a:lnTo>
                      <a:lnTo>
                        <a:pt x="0" y="321945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0" name="グループ化 8"/>
              <p:cNvGrpSpPr/>
              <p:nvPr/>
            </p:nvGrpSpPr>
            <p:grpSpPr>
              <a:xfrm>
                <a:off x="8010720" y="5605200"/>
                <a:ext cx="460080" cy="438120"/>
                <a:chOff x="8010720" y="5605200"/>
                <a:chExt cx="460080" cy="438120"/>
              </a:xfrm>
            </p:grpSpPr>
            <p:sp>
              <p:nvSpPr>
                <p:cNvPr id="11" name="フリーフォーム 63"/>
                <p:cNvSpPr/>
                <p:nvPr/>
              </p:nvSpPr>
              <p:spPr>
                <a:xfrm rot="10800000">
                  <a:off x="8010720" y="5687640"/>
                  <a:ext cx="460080" cy="331920"/>
                </a:xfrm>
                <a:custGeom>
                  <a:avLst/>
                  <a:gdLst/>
                  <a:ahLst/>
                  <a:rect l="l" t="t" r="r" b="b"/>
                  <a:pathLst>
                    <a:path w="434340" h="321945">
                      <a:moveTo>
                        <a:pt x="434340" y="0"/>
                      </a:moveTo>
                      <a:lnTo>
                        <a:pt x="434340" y="321945"/>
                      </a:lnTo>
                      <a:lnTo>
                        <a:pt x="0" y="321945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" name="フリーフォーム 64"/>
                <p:cNvSpPr/>
                <p:nvPr/>
              </p:nvSpPr>
              <p:spPr>
                <a:xfrm rot="10800000">
                  <a:off x="8112240" y="5605200"/>
                  <a:ext cx="344520" cy="438120"/>
                </a:xfrm>
                <a:custGeom>
                  <a:avLst/>
                  <a:gdLst/>
                  <a:ahLst/>
                  <a:rect l="l" t="t" r="r" b="b"/>
                  <a:pathLst>
                    <a:path w="434340" h="321945">
                      <a:moveTo>
                        <a:pt x="434340" y="0"/>
                      </a:moveTo>
                      <a:lnTo>
                        <a:pt x="434340" y="321945"/>
                      </a:lnTo>
                      <a:lnTo>
                        <a:pt x="0" y="321945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3" name="グループ化 4"/>
            <p:cNvGrpSpPr/>
            <p:nvPr/>
          </p:nvGrpSpPr>
          <p:grpSpPr>
            <a:xfrm>
              <a:off x="4922640" y="1533600"/>
              <a:ext cx="860400" cy="304560"/>
              <a:chOff x="4922640" y="1533600"/>
              <a:chExt cx="860400" cy="304560"/>
            </a:xfrm>
          </p:grpSpPr>
          <p:sp>
            <p:nvSpPr>
              <p:cNvPr id="14" name="直線コネクタ 59"/>
              <p:cNvSpPr/>
              <p:nvPr/>
            </p:nvSpPr>
            <p:spPr>
              <a:xfrm flipH="1">
                <a:off x="4922640" y="1760400"/>
                <a:ext cx="86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" name="直線コネクタ 60"/>
              <p:cNvSpPr/>
              <p:nvPr/>
            </p:nvSpPr>
            <p:spPr>
              <a:xfrm flipV="1">
                <a:off x="5356080" y="153360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6" name="グループ化 5"/>
            <p:cNvGrpSpPr/>
            <p:nvPr/>
          </p:nvGrpSpPr>
          <p:grpSpPr>
            <a:xfrm>
              <a:off x="4913280" y="5718240"/>
              <a:ext cx="860400" cy="304560"/>
              <a:chOff x="4913280" y="5718240"/>
              <a:chExt cx="860400" cy="304560"/>
            </a:xfrm>
          </p:grpSpPr>
          <p:sp>
            <p:nvSpPr>
              <p:cNvPr id="17" name="直線コネクタ 57"/>
              <p:cNvSpPr/>
              <p:nvPr/>
            </p:nvSpPr>
            <p:spPr>
              <a:xfrm>
                <a:off x="4913280" y="5794200"/>
                <a:ext cx="86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" name="直線コネクタ 58"/>
              <p:cNvSpPr/>
              <p:nvPr/>
            </p:nvSpPr>
            <p:spPr>
              <a:xfrm>
                <a:off x="5332320" y="571824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" name="グループ化 1"/>
            <p:cNvGrpSpPr/>
            <p:nvPr/>
          </p:nvGrpSpPr>
          <p:grpSpPr>
            <a:xfrm>
              <a:off x="2227320" y="1528920"/>
              <a:ext cx="460080" cy="4507560"/>
              <a:chOff x="2227320" y="1528920"/>
              <a:chExt cx="460080" cy="4507560"/>
            </a:xfrm>
          </p:grpSpPr>
          <p:grpSp>
            <p:nvGrpSpPr>
              <p:cNvPr id="20" name="グループ化 8"/>
              <p:cNvGrpSpPr/>
              <p:nvPr/>
            </p:nvGrpSpPr>
            <p:grpSpPr>
              <a:xfrm>
                <a:off x="2248560" y="1528920"/>
                <a:ext cx="438120" cy="460440"/>
                <a:chOff x="2248560" y="1528920"/>
                <a:chExt cx="438120" cy="460440"/>
              </a:xfrm>
            </p:grpSpPr>
            <p:sp>
              <p:nvSpPr>
                <p:cNvPr id="21" name="フリーフォーム 55"/>
                <p:cNvSpPr/>
                <p:nvPr/>
              </p:nvSpPr>
              <p:spPr>
                <a:xfrm flipV="1" rot="5400000">
                  <a:off x="2179440" y="1597320"/>
                  <a:ext cx="460440" cy="322560"/>
                </a:xfrm>
                <a:custGeom>
                  <a:avLst/>
                  <a:gdLst/>
                  <a:ahLst/>
                  <a:rect l="l" t="t" r="r" b="b"/>
                  <a:pathLst>
                    <a:path w="434340" h="321945">
                      <a:moveTo>
                        <a:pt x="434340" y="0"/>
                      </a:moveTo>
                      <a:lnTo>
                        <a:pt x="434340" y="321945"/>
                      </a:lnTo>
                      <a:lnTo>
                        <a:pt x="0" y="321945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" name="フリーフォーム 56"/>
                <p:cNvSpPr/>
                <p:nvPr/>
              </p:nvSpPr>
              <p:spPr>
                <a:xfrm flipV="1" rot="5400000">
                  <a:off x="2301480" y="1487880"/>
                  <a:ext cx="344520" cy="425880"/>
                </a:xfrm>
                <a:custGeom>
                  <a:avLst/>
                  <a:gdLst/>
                  <a:ahLst/>
                  <a:rect l="l" t="t" r="r" b="b"/>
                  <a:pathLst>
                    <a:path w="434340" h="321945">
                      <a:moveTo>
                        <a:pt x="434340" y="0"/>
                      </a:moveTo>
                      <a:lnTo>
                        <a:pt x="434340" y="321945"/>
                      </a:lnTo>
                      <a:lnTo>
                        <a:pt x="0" y="321945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3" name="グループ化 8"/>
              <p:cNvGrpSpPr/>
              <p:nvPr/>
            </p:nvGrpSpPr>
            <p:grpSpPr>
              <a:xfrm>
                <a:off x="2227320" y="5598360"/>
                <a:ext cx="460080" cy="438120"/>
                <a:chOff x="2227320" y="5598360"/>
                <a:chExt cx="460080" cy="438120"/>
              </a:xfrm>
            </p:grpSpPr>
            <p:sp>
              <p:nvSpPr>
                <p:cNvPr id="24" name="フリーフォーム 53"/>
                <p:cNvSpPr/>
                <p:nvPr/>
              </p:nvSpPr>
              <p:spPr>
                <a:xfrm flipV="1">
                  <a:off x="2227320" y="5696640"/>
                  <a:ext cx="460080" cy="331920"/>
                </a:xfrm>
                <a:custGeom>
                  <a:avLst/>
                  <a:gdLst/>
                  <a:ahLst/>
                  <a:rect l="l" t="t" r="r" b="b"/>
                  <a:pathLst>
                    <a:path w="434340" h="321945">
                      <a:moveTo>
                        <a:pt x="434340" y="0"/>
                      </a:moveTo>
                      <a:lnTo>
                        <a:pt x="434340" y="321945"/>
                      </a:lnTo>
                      <a:lnTo>
                        <a:pt x="0" y="321945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" name="フリーフォーム 54"/>
                <p:cNvSpPr/>
                <p:nvPr/>
              </p:nvSpPr>
              <p:spPr>
                <a:xfrm flipV="1">
                  <a:off x="2228760" y="5598000"/>
                  <a:ext cx="344520" cy="438120"/>
                </a:xfrm>
                <a:custGeom>
                  <a:avLst/>
                  <a:gdLst/>
                  <a:ahLst/>
                  <a:rect l="l" t="t" r="r" b="b"/>
                  <a:pathLst>
                    <a:path w="434340" h="321945">
                      <a:moveTo>
                        <a:pt x="434340" y="0"/>
                      </a:moveTo>
                      <a:lnTo>
                        <a:pt x="434340" y="321945"/>
                      </a:lnTo>
                      <a:lnTo>
                        <a:pt x="0" y="321945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26" name="正方形/長方形 3"/>
          <p:cNvSpPr/>
          <p:nvPr/>
        </p:nvSpPr>
        <p:spPr>
          <a:xfrm>
            <a:off x="2970360" y="6246720"/>
            <a:ext cx="475128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ja-JP" sz="1100" spc="-1" strike="noStrike">
                <a:solidFill>
                  <a:srgbClr val="0066ff"/>
                </a:solidFill>
                <a:latin typeface="Calibri"/>
              </a:rPr>
              <a:t>●</a:t>
            </a:r>
            <a:r>
              <a:rPr b="1" lang="ja-JP" sz="1100" spc="-1" strike="noStrike">
                <a:solidFill>
                  <a:srgbClr val="0066ff"/>
                </a:solidFill>
                <a:latin typeface="Calibri"/>
              </a:rPr>
              <a:t>水色の枠線</a:t>
            </a:r>
            <a:r>
              <a:rPr b="1" lang="en-US" sz="1100" spc="-1" strike="noStrike">
                <a:solidFill>
                  <a:srgbClr val="0066ff"/>
                </a:solidFill>
                <a:latin typeface="Calibri"/>
              </a:rPr>
              <a:t>……</a:t>
            </a:r>
            <a:r>
              <a:rPr b="1" lang="ja-JP" sz="1100" spc="-1" strike="noStrike">
                <a:solidFill>
                  <a:srgbClr val="0066ff"/>
                </a:solidFill>
                <a:latin typeface="Calibri"/>
              </a:rPr>
              <a:t>切れてはいけない要素（文字やロゴ等）をいれる範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ja-JP" sz="1100" spc="-1" strike="noStrike">
                <a:solidFill>
                  <a:srgbClr val="cc00ff"/>
                </a:solidFill>
                <a:latin typeface="Calibri"/>
              </a:rPr>
              <a:t>●</a:t>
            </a:r>
            <a:r>
              <a:rPr b="1" lang="ja-JP" sz="1100" spc="-1" strike="noStrike">
                <a:solidFill>
                  <a:srgbClr val="cc00ff"/>
                </a:solidFill>
                <a:latin typeface="Calibri"/>
              </a:rPr>
              <a:t>ピンクの枠線</a:t>
            </a:r>
            <a:r>
              <a:rPr b="1" lang="en-US" sz="1100" spc="-1" strike="noStrike">
                <a:solidFill>
                  <a:srgbClr val="cc00ff"/>
                </a:solidFill>
                <a:latin typeface="Calibri"/>
              </a:rPr>
              <a:t>…</a:t>
            </a:r>
            <a:r>
              <a:rPr b="1" lang="ja-JP" sz="1100" spc="-1" strike="noStrike">
                <a:solidFill>
                  <a:srgbClr val="cc00ff"/>
                </a:solidFill>
                <a:latin typeface="Calibri"/>
              </a:rPr>
              <a:t>仕上がりのサイズ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ja-JP" sz="1100" spc="-1" strike="noStrike">
                <a:solidFill>
                  <a:srgbClr val="008000"/>
                </a:solidFill>
                <a:latin typeface="Calibri"/>
              </a:rPr>
              <a:t>●</a:t>
            </a:r>
            <a:r>
              <a:rPr b="1" lang="ja-JP" sz="1100" spc="-1" strike="noStrike">
                <a:solidFill>
                  <a:srgbClr val="008000"/>
                </a:solidFill>
                <a:latin typeface="Calibri"/>
              </a:rPr>
              <a:t>みどりの枠線</a:t>
            </a:r>
            <a:r>
              <a:rPr b="1" lang="en-US" sz="1100" spc="-1" strike="noStrike">
                <a:solidFill>
                  <a:srgbClr val="008000"/>
                </a:solidFill>
                <a:latin typeface="Calibri"/>
              </a:rPr>
              <a:t>…</a:t>
            </a:r>
            <a:r>
              <a:rPr b="1" lang="ja-JP" sz="1100" spc="-1" strike="noStrike">
                <a:solidFill>
                  <a:srgbClr val="008000"/>
                </a:solidFill>
                <a:latin typeface="Calibri"/>
              </a:rPr>
              <a:t>フチなし印刷にする場合、背景を伸ばす範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★★★ </a:t>
            </a: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ＰＤＦに変換して入稿される場合 ★★★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「表示」＞「スライドマスター」画面より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色つきのガイド線を消してから変換してください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" name="図 3" descr="テキスト&#10;&#10;自動的に生成された説明"/>
          <p:cNvPicPr/>
          <p:nvPr/>
        </p:nvPicPr>
        <p:blipFill>
          <a:blip r:embed="rId2"/>
          <a:stretch/>
        </p:blipFill>
        <p:spPr>
          <a:xfrm>
            <a:off x="10963440" y="6480"/>
            <a:ext cx="4119480" cy="515880"/>
          </a:xfrm>
          <a:prstGeom prst="rect">
            <a:avLst/>
          </a:prstGeom>
          <a:ln w="0">
            <a:noFill/>
          </a:ln>
        </p:spPr>
      </p:pic>
      <p:pic>
        <p:nvPicPr>
          <p:cNvPr id="28" name="図 5" descr="グラフィカル ユーザー インターフェイス, テキスト&#10;&#10;自動的に生成された説明"/>
          <p:cNvPicPr/>
          <p:nvPr/>
        </p:nvPicPr>
        <p:blipFill>
          <a:blip r:embed="rId3"/>
          <a:stretch/>
        </p:blipFill>
        <p:spPr>
          <a:xfrm>
            <a:off x="10945800" y="652320"/>
            <a:ext cx="4137120" cy="755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06:36:19Z</dcterms:created>
  <dc:creator>Ex-Image</dc:creator>
  <dc:description/>
  <dc:language>en-US</dc:language>
  <cp:lastModifiedBy>Eximage-23</cp:lastModifiedBy>
  <dcterms:modified xsi:type="dcterms:W3CDTF">2025-02-25T01:18:14Z</dcterms:modified>
  <cp:revision>36</cp:revision>
  <dc:subject/>
  <dc:title>PowerPoint プレゼンテーション</dc:title>
</cp:coreProperties>
</file>