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2803680" y="212040"/>
            <a:ext cx="508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ポストカード：大判はがき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6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イズ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 仕上がりサイズ 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28 × 182 mm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正方形/長方形 28"/>
          <p:cNvSpPr/>
          <p:nvPr/>
        </p:nvSpPr>
        <p:spPr>
          <a:xfrm>
            <a:off x="2757600" y="6488280"/>
            <a:ext cx="51768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27040"/>
                <a:tab algn="l" pos="1054080"/>
                <a:tab algn="l" pos="1581120"/>
                <a:tab algn="l" pos="2108160"/>
                <a:tab algn="l" pos="2635200"/>
                <a:tab algn="l" pos="3162240"/>
                <a:tab algn="l" pos="3689280"/>
                <a:tab algn="l" pos="4216320"/>
                <a:tab algn="l" pos="4743360"/>
                <a:tab algn="l" pos="5270400"/>
                <a:tab algn="l" pos="5797440"/>
                <a:tab algn="l" pos="6324480"/>
                <a:tab algn="l" pos="6851520"/>
                <a:tab algn="l" pos="7378560"/>
                <a:tab algn="l" pos="7905600"/>
                <a:tab algn="l" pos="8432640"/>
                <a:tab algn="l" pos="8959680"/>
                <a:tab algn="l" pos="9487080"/>
                <a:tab algn="l" pos="10014120"/>
                <a:tab algn="l" pos="10541160"/>
              </a:tabLst>
            </a:pP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1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27040"/>
                <a:tab algn="l" pos="1054080"/>
                <a:tab algn="l" pos="1581120"/>
                <a:tab algn="l" pos="2108160"/>
                <a:tab algn="l" pos="2635200"/>
                <a:tab algn="l" pos="3162240"/>
                <a:tab algn="l" pos="3689280"/>
                <a:tab algn="l" pos="4216320"/>
                <a:tab algn="l" pos="4743360"/>
                <a:tab algn="l" pos="5270400"/>
                <a:tab algn="l" pos="5797440"/>
                <a:tab algn="l" pos="6324480"/>
                <a:tab algn="l" pos="6851520"/>
                <a:tab algn="l" pos="7378560"/>
                <a:tab algn="l" pos="7905600"/>
                <a:tab algn="l" pos="8432640"/>
                <a:tab algn="l" pos="8959680"/>
                <a:tab algn="l" pos="9487080"/>
                <a:tab algn="l" pos="10014120"/>
                <a:tab algn="l" pos="10541160"/>
              </a:tabLst>
            </a:pP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1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27040"/>
                <a:tab algn="l" pos="1054080"/>
                <a:tab algn="l" pos="1581120"/>
                <a:tab algn="l" pos="2108160"/>
                <a:tab algn="l" pos="2635200"/>
                <a:tab algn="l" pos="3162240"/>
                <a:tab algn="l" pos="3689280"/>
                <a:tab algn="l" pos="4216320"/>
                <a:tab algn="l" pos="4743360"/>
                <a:tab algn="l" pos="5270400"/>
                <a:tab algn="l" pos="5797440"/>
                <a:tab algn="l" pos="6324480"/>
                <a:tab algn="l" pos="6851520"/>
                <a:tab algn="l" pos="7378560"/>
                <a:tab algn="l" pos="7905600"/>
                <a:tab algn="l" pos="8432640"/>
                <a:tab algn="l" pos="8959680"/>
                <a:tab algn="l" pos="9487080"/>
                <a:tab algn="l" pos="10014120"/>
                <a:tab algn="l" pos="10541160"/>
              </a:tabLst>
            </a:pP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1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27040"/>
                <a:tab algn="l" pos="1054080"/>
                <a:tab algn="l" pos="1581120"/>
                <a:tab algn="l" pos="2108160"/>
                <a:tab algn="l" pos="2635200"/>
                <a:tab algn="l" pos="3162240"/>
                <a:tab algn="l" pos="3689280"/>
                <a:tab algn="l" pos="4216320"/>
                <a:tab algn="l" pos="4743360"/>
                <a:tab algn="l" pos="5270400"/>
                <a:tab algn="l" pos="5797440"/>
                <a:tab algn="l" pos="6324480"/>
                <a:tab algn="l" pos="6851520"/>
                <a:tab algn="l" pos="7378560"/>
                <a:tab algn="l" pos="7905600"/>
                <a:tab algn="l" pos="8432640"/>
                <a:tab algn="l" pos="8959680"/>
                <a:tab algn="l" pos="9487080"/>
                <a:tab algn="l" pos="10014120"/>
                <a:tab algn="l" pos="105411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527040"/>
                <a:tab algn="l" pos="1054080"/>
                <a:tab algn="l" pos="1581120"/>
                <a:tab algn="l" pos="2108160"/>
                <a:tab algn="l" pos="2635200"/>
                <a:tab algn="l" pos="3162240"/>
                <a:tab algn="l" pos="3689280"/>
                <a:tab algn="l" pos="4216320"/>
                <a:tab algn="l" pos="4743360"/>
                <a:tab algn="l" pos="5270400"/>
                <a:tab algn="l" pos="5797440"/>
                <a:tab algn="l" pos="6324480"/>
                <a:tab algn="l" pos="6851520"/>
                <a:tab algn="l" pos="7378560"/>
                <a:tab algn="l" pos="7905600"/>
                <a:tab algn="l" pos="8432640"/>
                <a:tab algn="l" pos="8959680"/>
                <a:tab algn="l" pos="9487080"/>
                <a:tab algn="l" pos="10014120"/>
                <a:tab algn="l" pos="1054116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527040"/>
                <a:tab algn="l" pos="1054080"/>
                <a:tab algn="l" pos="1581120"/>
                <a:tab algn="l" pos="2108160"/>
                <a:tab algn="l" pos="2635200"/>
                <a:tab algn="l" pos="3162240"/>
                <a:tab algn="l" pos="3689280"/>
                <a:tab algn="l" pos="4216320"/>
                <a:tab algn="l" pos="4743360"/>
                <a:tab algn="l" pos="5270400"/>
                <a:tab algn="l" pos="5797440"/>
                <a:tab algn="l" pos="6324480"/>
                <a:tab algn="l" pos="6851520"/>
                <a:tab algn="l" pos="7378560"/>
                <a:tab algn="l" pos="7905600"/>
                <a:tab algn="l" pos="8432640"/>
                <a:tab algn="l" pos="8959680"/>
                <a:tab algn="l" pos="9487080"/>
                <a:tab algn="l" pos="10014120"/>
                <a:tab algn="l" pos="1054116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「表示」＞「スライドマスター」画面より色つきのガイド線を消してから変換してください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グループ化 32"/>
          <p:cNvGrpSpPr/>
          <p:nvPr/>
        </p:nvGrpSpPr>
        <p:grpSpPr>
          <a:xfrm>
            <a:off x="1961640" y="1366920"/>
            <a:ext cx="6767640" cy="4824360"/>
            <a:chOff x="1961640" y="1366920"/>
            <a:chExt cx="6767640" cy="4824360"/>
          </a:xfrm>
        </p:grpSpPr>
        <p:sp>
          <p:nvSpPr>
            <p:cNvPr id="3" name="正方形/長方形 31"/>
            <p:cNvSpPr/>
            <p:nvPr/>
          </p:nvSpPr>
          <p:spPr>
            <a:xfrm rot="5400000">
              <a:off x="3040920" y="502560"/>
              <a:ext cx="4608720" cy="655200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正方形/長方形 32"/>
            <p:cNvSpPr/>
            <p:nvPr/>
          </p:nvSpPr>
          <p:spPr>
            <a:xfrm rot="5400000">
              <a:off x="3149280" y="610560"/>
              <a:ext cx="4392720" cy="633600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正方形/長方形 33"/>
            <p:cNvSpPr/>
            <p:nvPr/>
          </p:nvSpPr>
          <p:spPr>
            <a:xfrm rot="5400000">
              <a:off x="2932920" y="394920"/>
              <a:ext cx="4824360" cy="676764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" name="グループ化 33"/>
          <p:cNvGrpSpPr/>
          <p:nvPr/>
        </p:nvGrpSpPr>
        <p:grpSpPr>
          <a:xfrm>
            <a:off x="1633320" y="1035000"/>
            <a:ext cx="7429320" cy="5492520"/>
            <a:chOff x="1633320" y="1035000"/>
            <a:chExt cx="7429320" cy="5492520"/>
          </a:xfrm>
        </p:grpSpPr>
        <p:grpSp>
          <p:nvGrpSpPr>
            <p:cNvPr id="7" name="グループ化 12"/>
            <p:cNvGrpSpPr/>
            <p:nvPr/>
          </p:nvGrpSpPr>
          <p:grpSpPr>
            <a:xfrm>
              <a:off x="4917240" y="1044360"/>
              <a:ext cx="858960" cy="304920"/>
              <a:chOff x="4917240" y="1044360"/>
              <a:chExt cx="858960" cy="304920"/>
            </a:xfrm>
          </p:grpSpPr>
          <p:sp>
            <p:nvSpPr>
              <p:cNvPr id="8" name="直線コネクタ 58"/>
              <p:cNvSpPr/>
              <p:nvPr/>
            </p:nvSpPr>
            <p:spPr>
              <a:xfrm flipH="1">
                <a:off x="4917240" y="1271520"/>
                <a:ext cx="85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" name="直線コネクタ 59"/>
              <p:cNvSpPr/>
              <p:nvPr/>
            </p:nvSpPr>
            <p:spPr>
              <a:xfrm flipV="1">
                <a:off x="5351400" y="1044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" name="グループ化 12"/>
            <p:cNvGrpSpPr/>
            <p:nvPr/>
          </p:nvGrpSpPr>
          <p:grpSpPr>
            <a:xfrm>
              <a:off x="4917240" y="6210000"/>
              <a:ext cx="858960" cy="304920"/>
              <a:chOff x="4917240" y="6210000"/>
              <a:chExt cx="858960" cy="304920"/>
            </a:xfrm>
          </p:grpSpPr>
          <p:sp>
            <p:nvSpPr>
              <p:cNvPr id="11" name="直線コネクタ 56"/>
              <p:cNvSpPr/>
              <p:nvPr/>
            </p:nvSpPr>
            <p:spPr>
              <a:xfrm>
                <a:off x="4917240" y="6287760"/>
                <a:ext cx="85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" name="直線コネクタ 57"/>
              <p:cNvSpPr/>
              <p:nvPr/>
            </p:nvSpPr>
            <p:spPr>
              <a:xfrm>
                <a:off x="5330880" y="62100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" name="グループ化 85"/>
            <p:cNvGrpSpPr/>
            <p:nvPr/>
          </p:nvGrpSpPr>
          <p:grpSpPr>
            <a:xfrm>
              <a:off x="8622360" y="1035000"/>
              <a:ext cx="438120" cy="441360"/>
              <a:chOff x="8622360" y="1035000"/>
              <a:chExt cx="438120" cy="441360"/>
            </a:xfrm>
          </p:grpSpPr>
          <p:sp>
            <p:nvSpPr>
              <p:cNvPr id="14" name="フリーフォーム 52"/>
              <p:cNvSpPr/>
              <p:nvPr/>
            </p:nvSpPr>
            <p:spPr>
              <a:xfrm rot="5400000">
                <a:off x="8677440" y="1093320"/>
                <a:ext cx="441360" cy="32436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フリーフォーム 53"/>
              <p:cNvSpPr/>
              <p:nvPr/>
            </p:nvSpPr>
            <p:spPr>
              <a:xfrm rot="5400000">
                <a:off x="8678520" y="983160"/>
                <a:ext cx="325440" cy="43812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" name="グループ化 86"/>
            <p:cNvGrpSpPr/>
            <p:nvPr/>
          </p:nvGrpSpPr>
          <p:grpSpPr>
            <a:xfrm>
              <a:off x="8624520" y="6087960"/>
              <a:ext cx="438120" cy="439560"/>
              <a:chOff x="8624520" y="6087960"/>
              <a:chExt cx="438120" cy="439560"/>
            </a:xfrm>
          </p:grpSpPr>
          <p:sp>
            <p:nvSpPr>
              <p:cNvPr id="17" name="フリーフォーム 50"/>
              <p:cNvSpPr/>
              <p:nvPr/>
            </p:nvSpPr>
            <p:spPr>
              <a:xfrm flipH="1" rot="5400000">
                <a:off x="8676000" y="6145560"/>
                <a:ext cx="43956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" name="フリーフォーム 51"/>
              <p:cNvSpPr/>
              <p:nvPr/>
            </p:nvSpPr>
            <p:spPr>
              <a:xfrm flipH="1" rot="5400000">
                <a:off x="8681400" y="6140520"/>
                <a:ext cx="323640" cy="43812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" name="グループ化 85"/>
            <p:cNvGrpSpPr/>
            <p:nvPr/>
          </p:nvGrpSpPr>
          <p:grpSpPr>
            <a:xfrm>
              <a:off x="1633320" y="6084000"/>
              <a:ext cx="437760" cy="440280"/>
              <a:chOff x="1633320" y="6084000"/>
              <a:chExt cx="437760" cy="440280"/>
            </a:xfrm>
          </p:grpSpPr>
          <p:sp>
            <p:nvSpPr>
              <p:cNvPr id="20" name="フリーフォーム 48"/>
              <p:cNvSpPr/>
              <p:nvPr/>
            </p:nvSpPr>
            <p:spPr>
              <a:xfrm rot="16200000">
                <a:off x="1575000" y="6142320"/>
                <a:ext cx="44028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" name="フリーフォーム 49"/>
              <p:cNvSpPr/>
              <p:nvPr/>
            </p:nvSpPr>
            <p:spPr>
              <a:xfrm rot="16200000">
                <a:off x="1689840" y="6140160"/>
                <a:ext cx="324360" cy="43776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" name="グループ化 86"/>
            <p:cNvGrpSpPr/>
            <p:nvPr/>
          </p:nvGrpSpPr>
          <p:grpSpPr>
            <a:xfrm>
              <a:off x="1633320" y="1035000"/>
              <a:ext cx="437760" cy="440280"/>
              <a:chOff x="1633320" y="1035000"/>
              <a:chExt cx="437760" cy="440280"/>
            </a:xfrm>
          </p:grpSpPr>
          <p:sp>
            <p:nvSpPr>
              <p:cNvPr id="23" name="フリーフォーム 46"/>
              <p:cNvSpPr/>
              <p:nvPr/>
            </p:nvSpPr>
            <p:spPr>
              <a:xfrm flipH="1" rot="16200000">
                <a:off x="1574640" y="1093320"/>
                <a:ext cx="44028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フリーフォーム 47"/>
              <p:cNvSpPr/>
              <p:nvPr/>
            </p:nvSpPr>
            <p:spPr>
              <a:xfrm flipH="1" rot="16200000">
                <a:off x="1690560" y="982440"/>
                <a:ext cx="323280" cy="43776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25" name="図 2" descr="テキスト&#10;&#10;自動的に生成された説明"/>
          <p:cNvPicPr/>
          <p:nvPr/>
        </p:nvPicPr>
        <p:blipFill>
          <a:blip r:embed="rId2"/>
          <a:stretch/>
        </p:blipFill>
        <p:spPr>
          <a:xfrm>
            <a:off x="10818720" y="0"/>
            <a:ext cx="4135680" cy="519120"/>
          </a:xfrm>
          <a:prstGeom prst="rect">
            <a:avLst/>
          </a:prstGeom>
          <a:ln w="0">
            <a:noFill/>
          </a:ln>
        </p:spPr>
      </p:pic>
      <p:pic>
        <p:nvPicPr>
          <p:cNvPr id="26" name="図 4" descr="グラフィカル ユーザー インターフェイス, テキスト&#10;&#10;自動的に生成された説明"/>
          <p:cNvPicPr/>
          <p:nvPr/>
        </p:nvPicPr>
        <p:blipFill>
          <a:blip r:embed="rId3"/>
          <a:stretch/>
        </p:blipFill>
        <p:spPr>
          <a:xfrm>
            <a:off x="10818720" y="611280"/>
            <a:ext cx="4135680" cy="755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Eximage-32</cp:lastModifiedBy>
  <dcterms:modified xsi:type="dcterms:W3CDTF">2025-02-10T01:24:36Z</dcterms:modified>
  <cp:revision>25</cp:revision>
  <dc:subject/>
  <dc:title>PowerPoint プレゼンテーション</dc:title>
</cp:coreProperties>
</file>