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5119350" cy="106918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13607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756000" y="5740920"/>
            <a:ext cx="13607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7728480" y="250164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756000" y="574092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7728480" y="574092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438156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357160" y="2501640"/>
            <a:ext cx="438156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9957960" y="2501640"/>
            <a:ext cx="438156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756000" y="5740920"/>
            <a:ext cx="438156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5357160" y="5740920"/>
            <a:ext cx="438156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9957960" y="5740920"/>
            <a:ext cx="438156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756000" y="2501640"/>
            <a:ext cx="1360764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1360764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02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7728480" y="2501640"/>
            <a:ext cx="66402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756000" y="426600"/>
            <a:ext cx="13607640" cy="827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7728480" y="2501640"/>
            <a:ext cx="66402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756000" y="574092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02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7728480" y="250164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7728480" y="574092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7728480" y="250164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756000" y="5740920"/>
            <a:ext cx="13607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3"/>
          <p:cNvSpPr/>
          <p:nvPr/>
        </p:nvSpPr>
        <p:spPr>
          <a:xfrm>
            <a:off x="5018040" y="698760"/>
            <a:ext cx="508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ctr" pos="2700360"/>
                <a:tab algn="r" pos="54007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■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ポストカード：大判はがき</a:t>
            </a:r>
            <a:r>
              <a:rPr b="0" lang="en-US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B5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サイズ</a:t>
            </a:r>
            <a:r>
              <a:rPr b="0" lang="en-US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_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横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ctr" pos="2700360"/>
                <a:tab algn="r" pos="54007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（ 仕上がりサイズ </a:t>
            </a:r>
            <a:r>
              <a:rPr b="0" lang="en-US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82 × 257 mm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）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正方形/長方形 3"/>
          <p:cNvSpPr/>
          <p:nvPr/>
        </p:nvSpPr>
        <p:spPr>
          <a:xfrm>
            <a:off x="3887640" y="9032760"/>
            <a:ext cx="7344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r>
              <a:rPr b="1" lang="ja-JP" sz="1600" spc="-1" strike="noStrike">
                <a:solidFill>
                  <a:srgbClr val="0066ff"/>
                </a:solidFill>
                <a:latin typeface="Calibri"/>
              </a:rPr>
              <a:t>●</a:t>
            </a:r>
            <a:r>
              <a:rPr b="1" lang="ja-JP" sz="1600" spc="-1" strike="noStrike">
                <a:solidFill>
                  <a:srgbClr val="0066ff"/>
                </a:solidFill>
                <a:latin typeface="Calibri"/>
              </a:rPr>
              <a:t>水色の枠線</a:t>
            </a:r>
            <a:r>
              <a:rPr b="1" lang="en-US" sz="1600" spc="-1" strike="noStrike">
                <a:solidFill>
                  <a:srgbClr val="0066ff"/>
                </a:solidFill>
                <a:latin typeface="Calibri"/>
              </a:rPr>
              <a:t>……</a:t>
            </a:r>
            <a:r>
              <a:rPr b="1" lang="ja-JP" sz="1600" spc="-1" strike="noStrike">
                <a:solidFill>
                  <a:srgbClr val="0066ff"/>
                </a:solidFill>
                <a:latin typeface="Calibri"/>
              </a:rPr>
              <a:t>切れてはいけない要素（文字やロゴ等）をいれる範囲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r>
              <a:rPr b="1" lang="ja-JP" sz="1600" spc="-1" strike="noStrike">
                <a:solidFill>
                  <a:srgbClr val="cc00ff"/>
                </a:solidFill>
                <a:latin typeface="Calibri"/>
              </a:rPr>
              <a:t>●</a:t>
            </a:r>
            <a:r>
              <a:rPr b="1" lang="ja-JP" sz="1600" spc="-1" strike="noStrike">
                <a:solidFill>
                  <a:srgbClr val="cc00ff"/>
                </a:solidFill>
                <a:latin typeface="Calibri"/>
              </a:rPr>
              <a:t>ピンクの枠線</a:t>
            </a:r>
            <a:r>
              <a:rPr b="1" lang="en-US" sz="1600" spc="-1" strike="noStrike">
                <a:solidFill>
                  <a:srgbClr val="cc00ff"/>
                </a:solidFill>
                <a:latin typeface="Calibri"/>
              </a:rPr>
              <a:t>…</a:t>
            </a:r>
            <a:r>
              <a:rPr b="1" lang="ja-JP" sz="1600" spc="-1" strike="noStrike">
                <a:solidFill>
                  <a:srgbClr val="cc00ff"/>
                </a:solidFill>
                <a:latin typeface="Calibri"/>
              </a:rPr>
              <a:t>仕上がりのサイズ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r>
              <a:rPr b="1" lang="ja-JP" sz="1600" spc="-1" strike="noStrike">
                <a:solidFill>
                  <a:srgbClr val="008000"/>
                </a:solidFill>
                <a:latin typeface="Calibri"/>
              </a:rPr>
              <a:t>●</a:t>
            </a:r>
            <a:r>
              <a:rPr b="1" lang="ja-JP" sz="1600" spc="-1" strike="noStrike">
                <a:solidFill>
                  <a:srgbClr val="008000"/>
                </a:solidFill>
                <a:latin typeface="Calibri"/>
              </a:rPr>
              <a:t>みどりの枠線</a:t>
            </a:r>
            <a:r>
              <a:rPr b="1" lang="en-US" sz="1600" spc="-1" strike="noStrike">
                <a:solidFill>
                  <a:srgbClr val="008000"/>
                </a:solidFill>
                <a:latin typeface="Calibri"/>
              </a:rPr>
              <a:t>…</a:t>
            </a:r>
            <a:r>
              <a:rPr b="1" lang="ja-JP" sz="1600" spc="-1" strike="noStrike">
                <a:solidFill>
                  <a:srgbClr val="008000"/>
                </a:solidFill>
                <a:latin typeface="Calibri"/>
              </a:rPr>
              <a:t>フチなし印刷にする場合、背景を伸ばす範囲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Calibri"/>
              </a:rPr>
              <a:t>★★★ </a:t>
            </a:r>
            <a:r>
              <a:rPr b="1" lang="ja-JP" sz="1600" spc="-1" strike="noStrike">
                <a:solidFill>
                  <a:srgbClr val="ff0000"/>
                </a:solidFill>
                <a:latin typeface="Calibri"/>
              </a:rPr>
              <a:t>ＰＤＦに変換して入稿される場合 ★★★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Calibri"/>
              </a:rPr>
              <a:t>「表示」＞「スライドマスター」画面より色つきのガイド線を消してから変換してください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" name="グループ化 3"/>
          <p:cNvGrpSpPr/>
          <p:nvPr/>
        </p:nvGrpSpPr>
        <p:grpSpPr>
          <a:xfrm>
            <a:off x="2827080" y="1959120"/>
            <a:ext cx="9467640" cy="6769080"/>
            <a:chOff x="2827080" y="1959120"/>
            <a:chExt cx="9467640" cy="6769080"/>
          </a:xfrm>
        </p:grpSpPr>
        <p:sp>
          <p:nvSpPr>
            <p:cNvPr id="3" name="正方形/長方形 55"/>
            <p:cNvSpPr/>
            <p:nvPr/>
          </p:nvSpPr>
          <p:spPr>
            <a:xfrm rot="5400000">
              <a:off x="4284360" y="717120"/>
              <a:ext cx="6553440" cy="9252000"/>
            </a:xfrm>
            <a:prstGeom prst="rect">
              <a:avLst/>
            </a:prstGeom>
            <a:noFill/>
            <a:ln w="3240">
              <a:solidFill>
                <a:srgbClr val="ff3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1042920"/>
                  <a:tab algn="l" pos="2085840"/>
                  <a:tab algn="l" pos="3129120"/>
                  <a:tab algn="l" pos="4172040"/>
                  <a:tab algn="l" pos="5214960"/>
                  <a:tab algn="l" pos="6257880"/>
                  <a:tab algn="l" pos="7300800"/>
                  <a:tab algn="l" pos="8344080"/>
                  <a:tab algn="l" pos="9387000"/>
                  <a:tab algn="l" pos="104299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" name="正方形/長方形 56"/>
            <p:cNvSpPr/>
            <p:nvPr/>
          </p:nvSpPr>
          <p:spPr>
            <a:xfrm rot="5400000">
              <a:off x="4392360" y="825120"/>
              <a:ext cx="6337440" cy="9036000"/>
            </a:xfrm>
            <a:prstGeom prst="rect">
              <a:avLst/>
            </a:prstGeom>
            <a:noFill/>
            <a:ln w="3240">
              <a:solidFill>
                <a:srgbClr val="40fff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1042920"/>
                  <a:tab algn="l" pos="2085840"/>
                  <a:tab algn="l" pos="3129120"/>
                  <a:tab algn="l" pos="4172040"/>
                  <a:tab algn="l" pos="5214960"/>
                  <a:tab algn="l" pos="6257880"/>
                  <a:tab algn="l" pos="7300800"/>
                  <a:tab algn="l" pos="8344080"/>
                  <a:tab algn="l" pos="9387000"/>
                  <a:tab algn="l" pos="104299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" name="正方形/長方形 57"/>
            <p:cNvSpPr/>
            <p:nvPr/>
          </p:nvSpPr>
          <p:spPr>
            <a:xfrm rot="5400000">
              <a:off x="4176360" y="609480"/>
              <a:ext cx="6769080" cy="9467640"/>
            </a:xfrm>
            <a:prstGeom prst="rect">
              <a:avLst/>
            </a:prstGeom>
            <a:noFill/>
            <a:ln w="3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1042920"/>
                  <a:tab algn="l" pos="2085840"/>
                  <a:tab algn="l" pos="3129120"/>
                  <a:tab algn="l" pos="4172040"/>
                  <a:tab algn="l" pos="5214960"/>
                  <a:tab algn="l" pos="6257880"/>
                  <a:tab algn="l" pos="7300800"/>
                  <a:tab algn="l" pos="8344080"/>
                  <a:tab algn="l" pos="9387000"/>
                  <a:tab algn="l" pos="104299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" name="グループ化 2"/>
          <p:cNvGrpSpPr/>
          <p:nvPr/>
        </p:nvGrpSpPr>
        <p:grpSpPr>
          <a:xfrm>
            <a:off x="2496960" y="1631880"/>
            <a:ext cx="10125360" cy="7427520"/>
            <a:chOff x="2496960" y="1631880"/>
            <a:chExt cx="10125360" cy="7427520"/>
          </a:xfrm>
        </p:grpSpPr>
        <p:grpSp>
          <p:nvGrpSpPr>
            <p:cNvPr id="7" name="グループ化 12"/>
            <p:cNvGrpSpPr/>
            <p:nvPr/>
          </p:nvGrpSpPr>
          <p:grpSpPr>
            <a:xfrm>
              <a:off x="7130520" y="1645920"/>
              <a:ext cx="858600" cy="304560"/>
              <a:chOff x="7130520" y="1645920"/>
              <a:chExt cx="858600" cy="304560"/>
            </a:xfrm>
          </p:grpSpPr>
          <p:sp>
            <p:nvSpPr>
              <p:cNvPr id="8" name="直線コネクタ 53"/>
              <p:cNvSpPr/>
              <p:nvPr/>
            </p:nvSpPr>
            <p:spPr>
              <a:xfrm flipH="1">
                <a:off x="7130520" y="1872720"/>
                <a:ext cx="85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" name="直線コネクタ 54"/>
              <p:cNvSpPr/>
              <p:nvPr/>
            </p:nvSpPr>
            <p:spPr>
              <a:xfrm flipV="1">
                <a:off x="7568640" y="164592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" name="グループ化 12"/>
            <p:cNvGrpSpPr/>
            <p:nvPr/>
          </p:nvGrpSpPr>
          <p:grpSpPr>
            <a:xfrm>
              <a:off x="7130880" y="8735760"/>
              <a:ext cx="858600" cy="304560"/>
              <a:chOff x="7130880" y="8735760"/>
              <a:chExt cx="858600" cy="304560"/>
            </a:xfrm>
          </p:grpSpPr>
          <p:sp>
            <p:nvSpPr>
              <p:cNvPr id="11" name="直線コネクタ 51"/>
              <p:cNvSpPr/>
              <p:nvPr/>
            </p:nvSpPr>
            <p:spPr>
              <a:xfrm>
                <a:off x="7130880" y="8813520"/>
                <a:ext cx="85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" name="直線コネクタ 52"/>
              <p:cNvSpPr/>
              <p:nvPr/>
            </p:nvSpPr>
            <p:spPr>
              <a:xfrm>
                <a:off x="7543440" y="873576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3" name="グループ化 85"/>
            <p:cNvGrpSpPr/>
            <p:nvPr/>
          </p:nvGrpSpPr>
          <p:grpSpPr>
            <a:xfrm>
              <a:off x="12184560" y="1631880"/>
              <a:ext cx="437760" cy="440280"/>
              <a:chOff x="12184560" y="1631880"/>
              <a:chExt cx="437760" cy="440280"/>
            </a:xfrm>
          </p:grpSpPr>
          <p:sp>
            <p:nvSpPr>
              <p:cNvPr id="14" name="フリーフォーム 49"/>
              <p:cNvSpPr/>
              <p:nvPr/>
            </p:nvSpPr>
            <p:spPr>
              <a:xfrm rot="5400000">
                <a:off x="12240360" y="1690200"/>
                <a:ext cx="440280" cy="32364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" name="フリーフォーム 50"/>
              <p:cNvSpPr/>
              <p:nvPr/>
            </p:nvSpPr>
            <p:spPr>
              <a:xfrm rot="5400000">
                <a:off x="12241080" y="1575000"/>
                <a:ext cx="324360" cy="43776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6" name="グループ化 86"/>
            <p:cNvGrpSpPr/>
            <p:nvPr/>
          </p:nvGrpSpPr>
          <p:grpSpPr>
            <a:xfrm>
              <a:off x="12184560" y="8619120"/>
              <a:ext cx="437760" cy="440280"/>
              <a:chOff x="12184560" y="8619120"/>
              <a:chExt cx="437760" cy="440280"/>
            </a:xfrm>
          </p:grpSpPr>
          <p:sp>
            <p:nvSpPr>
              <p:cNvPr id="17" name="フリーフォーム 47"/>
              <p:cNvSpPr/>
              <p:nvPr/>
            </p:nvSpPr>
            <p:spPr>
              <a:xfrm flipH="1" rot="5400000">
                <a:off x="12240000" y="8677440"/>
                <a:ext cx="440280" cy="32364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" name="フリーフォーム 48"/>
              <p:cNvSpPr/>
              <p:nvPr/>
            </p:nvSpPr>
            <p:spPr>
              <a:xfrm flipH="1" rot="5400000">
                <a:off x="12241080" y="8678160"/>
                <a:ext cx="324360" cy="43776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9" name="グループ化 85"/>
            <p:cNvGrpSpPr/>
            <p:nvPr/>
          </p:nvGrpSpPr>
          <p:grpSpPr>
            <a:xfrm>
              <a:off x="2496960" y="1631880"/>
              <a:ext cx="437760" cy="440280"/>
              <a:chOff x="2496960" y="1631880"/>
              <a:chExt cx="437760" cy="440280"/>
            </a:xfrm>
          </p:grpSpPr>
          <p:sp>
            <p:nvSpPr>
              <p:cNvPr id="20" name="フリーフォーム 45"/>
              <p:cNvSpPr/>
              <p:nvPr/>
            </p:nvSpPr>
            <p:spPr>
              <a:xfrm flipV="1" rot="5400000">
                <a:off x="2438640" y="1689840"/>
                <a:ext cx="440280" cy="32364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" name="フリーフォーム 46"/>
              <p:cNvSpPr/>
              <p:nvPr/>
            </p:nvSpPr>
            <p:spPr>
              <a:xfrm flipV="1" rot="5400000">
                <a:off x="2553480" y="1574640"/>
                <a:ext cx="324360" cy="43776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2" name="グループ化 86"/>
            <p:cNvGrpSpPr/>
            <p:nvPr/>
          </p:nvGrpSpPr>
          <p:grpSpPr>
            <a:xfrm>
              <a:off x="2496960" y="8619120"/>
              <a:ext cx="437760" cy="440280"/>
              <a:chOff x="2496960" y="8619120"/>
              <a:chExt cx="437760" cy="440280"/>
            </a:xfrm>
          </p:grpSpPr>
          <p:sp>
            <p:nvSpPr>
              <p:cNvPr id="23" name="フリーフォーム 43"/>
              <p:cNvSpPr/>
              <p:nvPr/>
            </p:nvSpPr>
            <p:spPr>
              <a:xfrm flipH="1" flipV="1" rot="5400000">
                <a:off x="2438280" y="8677080"/>
                <a:ext cx="440280" cy="32364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" name="フリーフォーム 44"/>
              <p:cNvSpPr/>
              <p:nvPr/>
            </p:nvSpPr>
            <p:spPr>
              <a:xfrm flipH="1" flipV="1" rot="5400000">
                <a:off x="2553480" y="8677800"/>
                <a:ext cx="324360" cy="43776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pic>
        <p:nvPicPr>
          <p:cNvPr id="25" name="図 2" descr="テキスト&#10;&#10;自動的に生成された説明"/>
          <p:cNvPicPr/>
          <p:nvPr/>
        </p:nvPicPr>
        <p:blipFill>
          <a:blip r:embed="rId2"/>
          <a:stretch/>
        </p:blipFill>
        <p:spPr>
          <a:xfrm>
            <a:off x="15263640" y="0"/>
            <a:ext cx="5851800" cy="733320"/>
          </a:xfrm>
          <a:prstGeom prst="rect">
            <a:avLst/>
          </a:prstGeom>
          <a:ln w="0">
            <a:noFill/>
          </a:ln>
        </p:spPr>
      </p:pic>
      <p:pic>
        <p:nvPicPr>
          <p:cNvPr id="26" name="図 4" descr="グラフィカル ユーザー インターフェイス, テキスト&#10;&#10;自動的に生成された説明"/>
          <p:cNvPicPr/>
          <p:nvPr/>
        </p:nvPicPr>
        <p:blipFill>
          <a:blip r:embed="rId3"/>
          <a:stretch/>
        </p:blipFill>
        <p:spPr>
          <a:xfrm>
            <a:off x="15263640" y="846000"/>
            <a:ext cx="5851800" cy="1069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9T06:36:19Z</dcterms:created>
  <dc:creator>Ex-Image</dc:creator>
  <dc:description/>
  <dc:language>en-US</dc:language>
  <cp:lastModifiedBy>Eximage-24</cp:lastModifiedBy>
  <dcterms:modified xsi:type="dcterms:W3CDTF">2025-02-19T02:22:32Z</dcterms:modified>
  <cp:revision>30</cp:revision>
  <dc:subject/>
  <dc:title>PowerPoint プレゼンテーション</dc:title>
</cp:coreProperties>
</file>