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400213" cy="18000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192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48348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2000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510192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948348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720000" y="718200"/>
            <a:ext cx="129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167440" y="854640"/>
            <a:ext cx="40654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0" rIns="111600" tIns="55800" bIns="55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292560"/>
                <a:tab algn="r" pos="6585120"/>
                <a:tab algn="l" pos="6686640"/>
                <a:tab algn="l" pos="7800840"/>
                <a:tab algn="l" pos="8915400"/>
                <a:tab algn="l" pos="1002996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</a:t>
            </a: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4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292560"/>
                <a:tab algn="r" pos="6585120"/>
                <a:tab algn="l" pos="6686640"/>
                <a:tab algn="l" pos="7800840"/>
                <a:tab algn="l" pos="8915400"/>
                <a:tab algn="l" pos="1002996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57 × 364 mm 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2"/>
          <p:cNvGrpSpPr/>
          <p:nvPr/>
        </p:nvGrpSpPr>
        <p:grpSpPr>
          <a:xfrm>
            <a:off x="2465280" y="2340000"/>
            <a:ext cx="9469440" cy="13320720"/>
            <a:chOff x="2465280" y="2340000"/>
            <a:chExt cx="9469440" cy="13320720"/>
          </a:xfrm>
        </p:grpSpPr>
        <p:sp>
          <p:nvSpPr>
            <p:cNvPr id="2" name="正方形/長方形 31"/>
            <p:cNvSpPr/>
            <p:nvPr/>
          </p:nvSpPr>
          <p:spPr>
            <a:xfrm>
              <a:off x="2572920" y="2447640"/>
              <a:ext cx="9253800" cy="13105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33"/>
            <p:cNvSpPr/>
            <p:nvPr/>
          </p:nvSpPr>
          <p:spPr>
            <a:xfrm>
              <a:off x="2680920" y="2555640"/>
              <a:ext cx="9037800" cy="128890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41"/>
            <p:cNvSpPr/>
            <p:nvPr/>
          </p:nvSpPr>
          <p:spPr>
            <a:xfrm>
              <a:off x="2465280" y="2340000"/>
              <a:ext cx="9469440" cy="13320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正方形/長方形 3"/>
          <p:cNvSpPr/>
          <p:nvPr/>
        </p:nvSpPr>
        <p:spPr>
          <a:xfrm>
            <a:off x="2928960" y="16025760"/>
            <a:ext cx="854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8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8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8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8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8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、色つきのガイド線を消してから変換してくださ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グループ化 4"/>
          <p:cNvGrpSpPr/>
          <p:nvPr/>
        </p:nvGrpSpPr>
        <p:grpSpPr>
          <a:xfrm>
            <a:off x="2089080" y="1957320"/>
            <a:ext cx="10228320" cy="14088600"/>
            <a:chOff x="2089080" y="1957320"/>
            <a:chExt cx="10228320" cy="14088600"/>
          </a:xfrm>
        </p:grpSpPr>
        <p:grpSp>
          <p:nvGrpSpPr>
            <p:cNvPr id="7" name="グループ化 8"/>
            <p:cNvGrpSpPr/>
            <p:nvPr/>
          </p:nvGrpSpPr>
          <p:grpSpPr>
            <a:xfrm>
              <a:off x="2089080" y="1965240"/>
              <a:ext cx="485640" cy="487080"/>
              <a:chOff x="2089080" y="1965240"/>
              <a:chExt cx="485640" cy="487080"/>
            </a:xfrm>
          </p:grpSpPr>
          <p:sp>
            <p:nvSpPr>
              <p:cNvPr id="8" name="フリーフォーム 66"/>
              <p:cNvSpPr/>
              <p:nvPr/>
            </p:nvSpPr>
            <p:spPr>
              <a:xfrm>
                <a:off x="2089080" y="1966680"/>
                <a:ext cx="485640" cy="3682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フリーフォーム 67"/>
              <p:cNvSpPr/>
              <p:nvPr/>
            </p:nvSpPr>
            <p:spPr>
              <a:xfrm>
                <a:off x="2097000" y="1965240"/>
                <a:ext cx="361800" cy="4870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グループ化 10"/>
            <p:cNvGrpSpPr/>
            <p:nvPr/>
          </p:nvGrpSpPr>
          <p:grpSpPr>
            <a:xfrm>
              <a:off x="11832120" y="1957320"/>
              <a:ext cx="477720" cy="495000"/>
              <a:chOff x="11832120" y="1957320"/>
              <a:chExt cx="477720" cy="495000"/>
            </a:xfrm>
          </p:grpSpPr>
          <p:sp>
            <p:nvSpPr>
              <p:cNvPr id="11" name="フリーフォーム 64"/>
              <p:cNvSpPr/>
              <p:nvPr/>
            </p:nvSpPr>
            <p:spPr>
              <a:xfrm rot="5400000">
                <a:off x="11874600" y="2023200"/>
                <a:ext cx="495000" cy="3632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フリーフォーム 65"/>
              <p:cNvSpPr/>
              <p:nvPr/>
            </p:nvSpPr>
            <p:spPr>
              <a:xfrm rot="5400000">
                <a:off x="11886120" y="1915920"/>
                <a:ext cx="369720" cy="4777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12"/>
            <p:cNvGrpSpPr/>
            <p:nvPr/>
          </p:nvGrpSpPr>
          <p:grpSpPr>
            <a:xfrm>
              <a:off x="2089800" y="8463240"/>
              <a:ext cx="358560" cy="1074600"/>
              <a:chOff x="2089800" y="8463240"/>
              <a:chExt cx="358560" cy="1074600"/>
            </a:xfrm>
          </p:grpSpPr>
          <p:sp>
            <p:nvSpPr>
              <p:cNvPr id="14" name="直線コネクタ 62"/>
              <p:cNvSpPr/>
              <p:nvPr/>
            </p:nvSpPr>
            <p:spPr>
              <a:xfrm>
                <a:off x="2363040" y="8463240"/>
                <a:ext cx="0" cy="10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63"/>
              <p:cNvSpPr/>
              <p:nvPr/>
            </p:nvSpPr>
            <p:spPr>
              <a:xfrm flipH="1">
                <a:off x="2089800" y="899496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12"/>
            <p:cNvGrpSpPr/>
            <p:nvPr/>
          </p:nvGrpSpPr>
          <p:grpSpPr>
            <a:xfrm>
              <a:off x="11957040" y="8463600"/>
              <a:ext cx="360360" cy="1073160"/>
              <a:chOff x="11957040" y="8463600"/>
              <a:chExt cx="360360" cy="1073160"/>
            </a:xfrm>
          </p:grpSpPr>
          <p:sp>
            <p:nvSpPr>
              <p:cNvPr id="17" name="直線コネクタ 60"/>
              <p:cNvSpPr/>
              <p:nvPr/>
            </p:nvSpPr>
            <p:spPr>
              <a:xfrm flipV="1">
                <a:off x="12049200" y="8463600"/>
                <a:ext cx="0" cy="107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61"/>
              <p:cNvSpPr/>
              <p:nvPr/>
            </p:nvSpPr>
            <p:spPr>
              <a:xfrm>
                <a:off x="11957040" y="901620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8"/>
            <p:cNvGrpSpPr/>
            <p:nvPr/>
          </p:nvGrpSpPr>
          <p:grpSpPr>
            <a:xfrm>
              <a:off x="11824920" y="15548400"/>
              <a:ext cx="485640" cy="487080"/>
              <a:chOff x="11824920" y="15548400"/>
              <a:chExt cx="485640" cy="487080"/>
            </a:xfrm>
          </p:grpSpPr>
          <p:sp>
            <p:nvSpPr>
              <p:cNvPr id="20" name="フリーフォーム 58"/>
              <p:cNvSpPr/>
              <p:nvPr/>
            </p:nvSpPr>
            <p:spPr>
              <a:xfrm rot="10800000">
                <a:off x="11824920" y="15664680"/>
                <a:ext cx="485640" cy="3693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59"/>
              <p:cNvSpPr/>
              <p:nvPr/>
            </p:nvSpPr>
            <p:spPr>
              <a:xfrm rot="10800000">
                <a:off x="11936160" y="15548400"/>
                <a:ext cx="363600" cy="4870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10"/>
            <p:cNvGrpSpPr/>
            <p:nvPr/>
          </p:nvGrpSpPr>
          <p:grpSpPr>
            <a:xfrm>
              <a:off x="2094480" y="15550920"/>
              <a:ext cx="477720" cy="495000"/>
              <a:chOff x="2094480" y="15550920"/>
              <a:chExt cx="477720" cy="495000"/>
            </a:xfrm>
          </p:grpSpPr>
          <p:sp>
            <p:nvSpPr>
              <p:cNvPr id="23" name="フリーフォーム 56"/>
              <p:cNvSpPr/>
              <p:nvPr/>
            </p:nvSpPr>
            <p:spPr>
              <a:xfrm rot="16200000">
                <a:off x="2030040" y="15617880"/>
                <a:ext cx="495000" cy="3607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57"/>
              <p:cNvSpPr/>
              <p:nvPr/>
            </p:nvSpPr>
            <p:spPr>
              <a:xfrm rot="16200000">
                <a:off x="2148480" y="15609600"/>
                <a:ext cx="369720" cy="4777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5" name="図 2" descr="グラフィカル ユーザー インターフェイス, 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14689080" y="1440000"/>
            <a:ext cx="9848880" cy="18000360"/>
          </a:xfrm>
          <a:prstGeom prst="rect">
            <a:avLst/>
          </a:prstGeom>
          <a:ln w="0">
            <a:noFill/>
          </a:ln>
        </p:spPr>
      </p:pic>
      <p:pic>
        <p:nvPicPr>
          <p:cNvPr id="26" name="図 4" descr="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14689080" y="0"/>
            <a:ext cx="9848880" cy="123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24</cp:lastModifiedBy>
  <dcterms:modified xsi:type="dcterms:W3CDTF">2025-02-19T02:18:15Z</dcterms:modified>
  <cp:revision>29</cp:revision>
  <dc:subject/>
  <dc:title>PowerPoint プレゼンテーション</dc:title>
</cp:coreProperties>
</file>