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003838" cy="14403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7848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8566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9000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637848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118566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900000" y="574560"/>
            <a:ext cx="16202880" cy="111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6249960" y="812160"/>
            <a:ext cx="55040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023920"/>
                <a:tab algn="r" pos="404820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ストカード：大判はがき</a:t>
            </a: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4</a:t>
            </a: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023920"/>
                <a:tab algn="r" pos="404820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57 × 364 mm </a:t>
            </a: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4508640" y="12431880"/>
            <a:ext cx="898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8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、色つきのガイド線を消してから変換してくださ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8"/>
          <p:cNvGrpSpPr/>
          <p:nvPr/>
        </p:nvGrpSpPr>
        <p:grpSpPr>
          <a:xfrm>
            <a:off x="2341440" y="2467080"/>
            <a:ext cx="13319280" cy="9467640"/>
            <a:chOff x="2341440" y="2467080"/>
            <a:chExt cx="13319280" cy="9467640"/>
          </a:xfrm>
        </p:grpSpPr>
        <p:sp>
          <p:nvSpPr>
            <p:cNvPr id="3" name="正方形/長方形 51"/>
            <p:cNvSpPr/>
            <p:nvPr/>
          </p:nvSpPr>
          <p:spPr>
            <a:xfrm rot="5400000">
              <a:off x="4375080" y="648720"/>
              <a:ext cx="9252000" cy="13103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52"/>
            <p:cNvSpPr/>
            <p:nvPr/>
          </p:nvSpPr>
          <p:spPr>
            <a:xfrm rot="5400000">
              <a:off x="4483080" y="756720"/>
              <a:ext cx="9036000" cy="12887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53"/>
            <p:cNvSpPr/>
            <p:nvPr/>
          </p:nvSpPr>
          <p:spPr>
            <a:xfrm rot="5400000">
              <a:off x="4267080" y="541080"/>
              <a:ext cx="9467640" cy="133192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グループ化 2"/>
          <p:cNvGrpSpPr/>
          <p:nvPr/>
        </p:nvGrpSpPr>
        <p:grpSpPr>
          <a:xfrm>
            <a:off x="1973160" y="2089080"/>
            <a:ext cx="14060160" cy="10228320"/>
            <a:chOff x="1973160" y="2089080"/>
            <a:chExt cx="14060160" cy="10228320"/>
          </a:xfrm>
        </p:grpSpPr>
        <p:grpSp>
          <p:nvGrpSpPr>
            <p:cNvPr id="7" name="グループ化 8"/>
            <p:cNvGrpSpPr/>
            <p:nvPr/>
          </p:nvGrpSpPr>
          <p:grpSpPr>
            <a:xfrm>
              <a:off x="15542640" y="2100960"/>
              <a:ext cx="487080" cy="485640"/>
              <a:chOff x="15542640" y="2100960"/>
              <a:chExt cx="487080" cy="485640"/>
            </a:xfrm>
          </p:grpSpPr>
          <p:sp>
            <p:nvSpPr>
              <p:cNvPr id="8" name="フリーフォーム 49"/>
              <p:cNvSpPr/>
              <p:nvPr/>
            </p:nvSpPr>
            <p:spPr>
              <a:xfrm rot="5400000">
                <a:off x="15604920" y="2161800"/>
                <a:ext cx="485640" cy="3636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フリーフォーム 50"/>
              <p:cNvSpPr/>
              <p:nvPr/>
            </p:nvSpPr>
            <p:spPr>
              <a:xfrm rot="5400000">
                <a:off x="15601320" y="2042280"/>
                <a:ext cx="363600" cy="4809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グループ化 10"/>
            <p:cNvGrpSpPr/>
            <p:nvPr/>
          </p:nvGrpSpPr>
          <p:grpSpPr>
            <a:xfrm>
              <a:off x="15538320" y="11815560"/>
              <a:ext cx="495000" cy="477720"/>
              <a:chOff x="15538320" y="11815560"/>
              <a:chExt cx="495000" cy="477720"/>
            </a:xfrm>
          </p:grpSpPr>
          <p:sp>
            <p:nvSpPr>
              <p:cNvPr id="11" name="フリーフォーム 47"/>
              <p:cNvSpPr/>
              <p:nvPr/>
            </p:nvSpPr>
            <p:spPr>
              <a:xfrm rot="10800000">
                <a:off x="15538320" y="11944080"/>
                <a:ext cx="495000" cy="349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フリーフォーム 48"/>
              <p:cNvSpPr/>
              <p:nvPr/>
            </p:nvSpPr>
            <p:spPr>
              <a:xfrm rot="10800000">
                <a:off x="15657480" y="11815560"/>
                <a:ext cx="369720" cy="4611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12"/>
            <p:cNvGrpSpPr/>
            <p:nvPr/>
          </p:nvGrpSpPr>
          <p:grpSpPr>
            <a:xfrm>
              <a:off x="8463960" y="2089080"/>
              <a:ext cx="1074600" cy="358560"/>
              <a:chOff x="8463960" y="2089080"/>
              <a:chExt cx="1074600" cy="358560"/>
            </a:xfrm>
          </p:grpSpPr>
          <p:sp>
            <p:nvSpPr>
              <p:cNvPr id="14" name="直線コネクタ 45"/>
              <p:cNvSpPr/>
              <p:nvPr/>
            </p:nvSpPr>
            <p:spPr>
              <a:xfrm flipH="1">
                <a:off x="8463960" y="2359800"/>
                <a:ext cx="107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直線コネクタ 46"/>
              <p:cNvSpPr/>
              <p:nvPr/>
            </p:nvSpPr>
            <p:spPr>
              <a:xfrm flipV="1">
                <a:off x="9013320" y="208908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12"/>
            <p:cNvGrpSpPr/>
            <p:nvPr/>
          </p:nvGrpSpPr>
          <p:grpSpPr>
            <a:xfrm>
              <a:off x="8465040" y="11957040"/>
              <a:ext cx="1073160" cy="360360"/>
              <a:chOff x="8465040" y="11957040"/>
              <a:chExt cx="1073160" cy="360360"/>
            </a:xfrm>
          </p:grpSpPr>
          <p:sp>
            <p:nvSpPr>
              <p:cNvPr id="17" name="直線コネクタ 43"/>
              <p:cNvSpPr/>
              <p:nvPr/>
            </p:nvSpPr>
            <p:spPr>
              <a:xfrm>
                <a:off x="8465040" y="12049200"/>
                <a:ext cx="107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44"/>
              <p:cNvSpPr/>
              <p:nvPr/>
            </p:nvSpPr>
            <p:spPr>
              <a:xfrm>
                <a:off x="8988840" y="1195704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8"/>
            <p:cNvGrpSpPr/>
            <p:nvPr/>
          </p:nvGrpSpPr>
          <p:grpSpPr>
            <a:xfrm>
              <a:off x="1975320" y="11822760"/>
              <a:ext cx="487080" cy="485640"/>
              <a:chOff x="1975320" y="11822760"/>
              <a:chExt cx="487080" cy="485640"/>
            </a:xfrm>
          </p:grpSpPr>
          <p:sp>
            <p:nvSpPr>
              <p:cNvPr id="20" name="フリーフォーム 41"/>
              <p:cNvSpPr/>
              <p:nvPr/>
            </p:nvSpPr>
            <p:spPr>
              <a:xfrm rot="16200000">
                <a:off x="1916640" y="11881440"/>
                <a:ext cx="485640" cy="3682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フリーフォーム 42"/>
              <p:cNvSpPr/>
              <p:nvPr/>
            </p:nvSpPr>
            <p:spPr>
              <a:xfrm rot="16200000">
                <a:off x="2036880" y="11876760"/>
                <a:ext cx="363600" cy="4870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10"/>
            <p:cNvGrpSpPr/>
            <p:nvPr/>
          </p:nvGrpSpPr>
          <p:grpSpPr>
            <a:xfrm>
              <a:off x="1973160" y="2105640"/>
              <a:ext cx="495000" cy="477720"/>
              <a:chOff x="1973160" y="2105640"/>
              <a:chExt cx="495000" cy="477720"/>
            </a:xfrm>
          </p:grpSpPr>
          <p:sp>
            <p:nvSpPr>
              <p:cNvPr id="23" name="フリーフォーム 39"/>
              <p:cNvSpPr/>
              <p:nvPr/>
            </p:nvSpPr>
            <p:spPr>
              <a:xfrm>
                <a:off x="1973160" y="2105640"/>
                <a:ext cx="495000" cy="353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フリーフォーム 40"/>
              <p:cNvSpPr/>
              <p:nvPr/>
            </p:nvSpPr>
            <p:spPr>
              <a:xfrm>
                <a:off x="1973160" y="2116440"/>
                <a:ext cx="369720" cy="4669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5" name="図 3" descr="グラフィカル ユーザー インターフェイス, 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18146880" y="1114560"/>
            <a:ext cx="7880040" cy="14401800"/>
          </a:xfrm>
          <a:prstGeom prst="rect">
            <a:avLst/>
          </a:prstGeom>
          <a:ln w="0">
            <a:noFill/>
          </a:ln>
        </p:spPr>
      </p:pic>
      <p:pic>
        <p:nvPicPr>
          <p:cNvPr id="26" name="図 5" descr="テキスト&#10;&#10;自動的に生成された説明"/>
          <p:cNvPicPr/>
          <p:nvPr/>
        </p:nvPicPr>
        <p:blipFill>
          <a:blip r:embed="rId3"/>
          <a:stretch/>
        </p:blipFill>
        <p:spPr>
          <a:xfrm>
            <a:off x="18146880" y="0"/>
            <a:ext cx="7880040" cy="98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Eximage-23</cp:lastModifiedBy>
  <dcterms:modified xsi:type="dcterms:W3CDTF">2025-02-25T01:22:03Z</dcterms:modified>
  <cp:revision>26</cp:revision>
  <dc:subject/>
  <dc:title>PowerPoint プレゼンテーション</dc:title>
</cp:coreProperties>
</file>