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5119350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247760" y="1142640"/>
            <a:ext cx="436248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51000"/>
                <a:tab algn="l" pos="2502000"/>
                <a:tab algn="l" pos="3753000"/>
                <a:tab algn="l" pos="5003640"/>
                <a:tab algn="l" pos="6254640"/>
                <a:tab algn="l" pos="7505640"/>
                <a:tab algn="l" pos="8756640"/>
                <a:tab algn="l" pos="1000764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71850CF2-8712-44D5-BF43-6F018105E12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247760" y="1143000"/>
            <a:ext cx="4362480" cy="308628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スライド番号プレースホルダー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739F1BFC-7E0C-4A97-87F9-F0860CABCF5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51000"/>
                <a:tab algn="l" pos="2502000"/>
                <a:tab algn="l" pos="3753000"/>
                <a:tab algn="l" pos="5003640"/>
                <a:tab algn="l" pos="6254640"/>
                <a:tab algn="l" pos="7505640"/>
                <a:tab algn="l" pos="8756640"/>
                <a:tab algn="l" pos="1000764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1000"/>
                <a:tab algn="l" pos="2502000"/>
                <a:tab algn="l" pos="3753000"/>
                <a:tab algn="l" pos="5003640"/>
                <a:tab algn="l" pos="6254640"/>
                <a:tab algn="l" pos="7505640"/>
                <a:tab algn="l" pos="8756640"/>
                <a:tab algn="l" pos="10007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1000"/>
                <a:tab algn="l" pos="2502000"/>
                <a:tab algn="l" pos="3753000"/>
                <a:tab algn="l" pos="5003640"/>
                <a:tab algn="l" pos="6254640"/>
                <a:tab algn="l" pos="7505640"/>
                <a:tab algn="l" pos="8756640"/>
                <a:tab algn="l" pos="10007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51000"/>
                <a:tab algn="l" pos="2502000"/>
                <a:tab algn="l" pos="3753000"/>
                <a:tab algn="l" pos="5003640"/>
                <a:tab algn="l" pos="6254640"/>
                <a:tab algn="l" pos="7505640"/>
                <a:tab algn="l" pos="8756640"/>
                <a:tab algn="l" pos="1000764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1000"/>
                <a:tab algn="l" pos="2502000"/>
                <a:tab algn="l" pos="3753000"/>
                <a:tab algn="l" pos="5003640"/>
                <a:tab algn="l" pos="6254640"/>
                <a:tab algn="l" pos="7505640"/>
                <a:tab algn="l" pos="8756640"/>
                <a:tab algn="l" pos="10007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1000"/>
                <a:tab algn="l" pos="2502000"/>
                <a:tab algn="l" pos="3753000"/>
                <a:tab algn="l" pos="5003640"/>
                <a:tab algn="l" pos="6254640"/>
                <a:tab algn="l" pos="7505640"/>
                <a:tab algn="l" pos="8756640"/>
                <a:tab algn="l" pos="10007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1000"/>
                <a:tab algn="l" pos="2502000"/>
                <a:tab algn="l" pos="3753000"/>
                <a:tab algn="l" pos="5003640"/>
                <a:tab algn="l" pos="6254640"/>
                <a:tab algn="l" pos="7505640"/>
                <a:tab algn="l" pos="8756640"/>
                <a:tab algn="l" pos="10007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1000"/>
                <a:tab algn="l" pos="2502000"/>
                <a:tab algn="l" pos="3753000"/>
                <a:tab algn="l" pos="5003640"/>
                <a:tab algn="l" pos="6254640"/>
                <a:tab algn="l" pos="7505640"/>
                <a:tab algn="l" pos="8756640"/>
                <a:tab algn="l" pos="10007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51000"/>
                <a:tab algn="l" pos="2502000"/>
                <a:tab algn="l" pos="3753000"/>
                <a:tab algn="l" pos="5003640"/>
                <a:tab algn="l" pos="6254640"/>
                <a:tab algn="l" pos="7505640"/>
                <a:tab algn="l" pos="8756640"/>
                <a:tab algn="l" pos="1000764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1000"/>
                <a:tab algn="l" pos="2502000"/>
                <a:tab algn="l" pos="3753000"/>
                <a:tab algn="l" pos="5003640"/>
                <a:tab algn="l" pos="6254640"/>
                <a:tab algn="l" pos="7505640"/>
                <a:tab algn="l" pos="8756640"/>
                <a:tab algn="l" pos="10007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71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1000"/>
                <a:tab algn="l" pos="2502000"/>
                <a:tab algn="l" pos="3753000"/>
                <a:tab algn="l" pos="5003640"/>
                <a:tab algn="l" pos="6254640"/>
                <a:tab algn="l" pos="7505640"/>
                <a:tab algn="l" pos="8756640"/>
                <a:tab algn="l" pos="10007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579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1000"/>
                <a:tab algn="l" pos="2502000"/>
                <a:tab algn="l" pos="3753000"/>
                <a:tab algn="l" pos="5003640"/>
                <a:tab algn="l" pos="6254640"/>
                <a:tab algn="l" pos="7505640"/>
                <a:tab algn="l" pos="8756640"/>
                <a:tab algn="l" pos="10007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1000"/>
                <a:tab algn="l" pos="2502000"/>
                <a:tab algn="l" pos="3753000"/>
                <a:tab algn="l" pos="5003640"/>
                <a:tab algn="l" pos="6254640"/>
                <a:tab algn="l" pos="7505640"/>
                <a:tab algn="l" pos="8756640"/>
                <a:tab algn="l" pos="10007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53571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1000"/>
                <a:tab algn="l" pos="2502000"/>
                <a:tab algn="l" pos="3753000"/>
                <a:tab algn="l" pos="5003640"/>
                <a:tab algn="l" pos="6254640"/>
                <a:tab algn="l" pos="7505640"/>
                <a:tab algn="l" pos="8756640"/>
                <a:tab algn="l" pos="10007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99579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1000"/>
                <a:tab algn="l" pos="2502000"/>
                <a:tab algn="l" pos="3753000"/>
                <a:tab algn="l" pos="5003640"/>
                <a:tab algn="l" pos="6254640"/>
                <a:tab algn="l" pos="7505640"/>
                <a:tab algn="l" pos="8756640"/>
                <a:tab algn="l" pos="10007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51000"/>
                <a:tab algn="l" pos="2502000"/>
                <a:tab algn="l" pos="3753000"/>
                <a:tab algn="l" pos="5003640"/>
                <a:tab algn="l" pos="6254640"/>
                <a:tab algn="l" pos="7505640"/>
                <a:tab algn="l" pos="8756640"/>
                <a:tab algn="l" pos="1000764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1251000"/>
                <a:tab algn="l" pos="2502000"/>
                <a:tab algn="l" pos="3753000"/>
                <a:tab algn="l" pos="5003640"/>
                <a:tab algn="l" pos="6254640"/>
                <a:tab algn="l" pos="7505640"/>
                <a:tab algn="l" pos="8756640"/>
                <a:tab algn="l" pos="10007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51000"/>
                <a:tab algn="l" pos="2502000"/>
                <a:tab algn="l" pos="3753000"/>
                <a:tab algn="l" pos="5003640"/>
                <a:tab algn="l" pos="6254640"/>
                <a:tab algn="l" pos="7505640"/>
                <a:tab algn="l" pos="8756640"/>
                <a:tab algn="l" pos="1000764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1000"/>
                <a:tab algn="l" pos="2502000"/>
                <a:tab algn="l" pos="3753000"/>
                <a:tab algn="l" pos="5003640"/>
                <a:tab algn="l" pos="6254640"/>
                <a:tab algn="l" pos="7505640"/>
                <a:tab algn="l" pos="8756640"/>
                <a:tab algn="l" pos="10007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51000"/>
                <a:tab algn="l" pos="2502000"/>
                <a:tab algn="l" pos="3753000"/>
                <a:tab algn="l" pos="5003640"/>
                <a:tab algn="l" pos="6254640"/>
                <a:tab algn="l" pos="7505640"/>
                <a:tab algn="l" pos="8756640"/>
                <a:tab algn="l" pos="1000764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1000"/>
                <a:tab algn="l" pos="2502000"/>
                <a:tab algn="l" pos="3753000"/>
                <a:tab algn="l" pos="5003640"/>
                <a:tab algn="l" pos="6254640"/>
                <a:tab algn="l" pos="7505640"/>
                <a:tab algn="l" pos="8756640"/>
                <a:tab algn="l" pos="10007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1000"/>
                <a:tab algn="l" pos="2502000"/>
                <a:tab algn="l" pos="3753000"/>
                <a:tab algn="l" pos="5003640"/>
                <a:tab algn="l" pos="6254640"/>
                <a:tab algn="l" pos="7505640"/>
                <a:tab algn="l" pos="8756640"/>
                <a:tab algn="l" pos="10007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51000"/>
                <a:tab algn="l" pos="2502000"/>
                <a:tab algn="l" pos="3753000"/>
                <a:tab algn="l" pos="5003640"/>
                <a:tab algn="l" pos="6254640"/>
                <a:tab algn="l" pos="7505640"/>
                <a:tab algn="l" pos="8756640"/>
                <a:tab algn="l" pos="1000764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07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1251000"/>
                <a:tab algn="l" pos="2502000"/>
                <a:tab algn="l" pos="3753000"/>
                <a:tab algn="l" pos="5003640"/>
                <a:tab algn="l" pos="6254640"/>
                <a:tab algn="l" pos="7505640"/>
                <a:tab algn="l" pos="8756640"/>
                <a:tab algn="l" pos="10007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51000"/>
                <a:tab algn="l" pos="2502000"/>
                <a:tab algn="l" pos="3753000"/>
                <a:tab algn="l" pos="5003640"/>
                <a:tab algn="l" pos="6254640"/>
                <a:tab algn="l" pos="7505640"/>
                <a:tab algn="l" pos="8756640"/>
                <a:tab algn="l" pos="1000764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1000"/>
                <a:tab algn="l" pos="2502000"/>
                <a:tab algn="l" pos="3753000"/>
                <a:tab algn="l" pos="5003640"/>
                <a:tab algn="l" pos="6254640"/>
                <a:tab algn="l" pos="7505640"/>
                <a:tab algn="l" pos="8756640"/>
                <a:tab algn="l" pos="10007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1000"/>
                <a:tab algn="l" pos="2502000"/>
                <a:tab algn="l" pos="3753000"/>
                <a:tab algn="l" pos="5003640"/>
                <a:tab algn="l" pos="6254640"/>
                <a:tab algn="l" pos="7505640"/>
                <a:tab algn="l" pos="8756640"/>
                <a:tab algn="l" pos="10007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1000"/>
                <a:tab algn="l" pos="2502000"/>
                <a:tab algn="l" pos="3753000"/>
                <a:tab algn="l" pos="5003640"/>
                <a:tab algn="l" pos="6254640"/>
                <a:tab algn="l" pos="7505640"/>
                <a:tab algn="l" pos="8756640"/>
                <a:tab algn="l" pos="10007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51000"/>
                <a:tab algn="l" pos="2502000"/>
                <a:tab algn="l" pos="3753000"/>
                <a:tab algn="l" pos="5003640"/>
                <a:tab algn="l" pos="6254640"/>
                <a:tab algn="l" pos="7505640"/>
                <a:tab algn="l" pos="8756640"/>
                <a:tab algn="l" pos="1000764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1000"/>
                <a:tab algn="l" pos="2502000"/>
                <a:tab algn="l" pos="3753000"/>
                <a:tab algn="l" pos="5003640"/>
                <a:tab algn="l" pos="6254640"/>
                <a:tab algn="l" pos="7505640"/>
                <a:tab algn="l" pos="8756640"/>
                <a:tab algn="l" pos="10007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1000"/>
                <a:tab algn="l" pos="2502000"/>
                <a:tab algn="l" pos="3753000"/>
                <a:tab algn="l" pos="5003640"/>
                <a:tab algn="l" pos="6254640"/>
                <a:tab algn="l" pos="7505640"/>
                <a:tab algn="l" pos="8756640"/>
                <a:tab algn="l" pos="10007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1000"/>
                <a:tab algn="l" pos="2502000"/>
                <a:tab algn="l" pos="3753000"/>
                <a:tab algn="l" pos="5003640"/>
                <a:tab algn="l" pos="6254640"/>
                <a:tab algn="l" pos="7505640"/>
                <a:tab algn="l" pos="8756640"/>
                <a:tab algn="l" pos="10007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51000"/>
                <a:tab algn="l" pos="2502000"/>
                <a:tab algn="l" pos="3753000"/>
                <a:tab algn="l" pos="5003640"/>
                <a:tab algn="l" pos="6254640"/>
                <a:tab algn="l" pos="7505640"/>
                <a:tab algn="l" pos="8756640"/>
                <a:tab algn="l" pos="1000764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1000"/>
                <a:tab algn="l" pos="2502000"/>
                <a:tab algn="l" pos="3753000"/>
                <a:tab algn="l" pos="5003640"/>
                <a:tab algn="l" pos="6254640"/>
                <a:tab algn="l" pos="7505640"/>
                <a:tab algn="l" pos="8756640"/>
                <a:tab algn="l" pos="10007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1000"/>
                <a:tab algn="l" pos="2502000"/>
                <a:tab algn="l" pos="3753000"/>
                <a:tab algn="l" pos="5003640"/>
                <a:tab algn="l" pos="6254640"/>
                <a:tab algn="l" pos="7505640"/>
                <a:tab algn="l" pos="8756640"/>
                <a:tab algn="l" pos="10007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1000"/>
                <a:tab algn="l" pos="2502000"/>
                <a:tab algn="l" pos="3753000"/>
                <a:tab algn="l" pos="5003640"/>
                <a:tab algn="l" pos="6254640"/>
                <a:tab algn="l" pos="7505640"/>
                <a:tab algn="l" pos="8756640"/>
                <a:tab algn="l" pos="10007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3"/>
          <p:cNvSpPr/>
          <p:nvPr/>
        </p:nvSpPr>
        <p:spPr>
          <a:xfrm>
            <a:off x="3543480" y="265680"/>
            <a:ext cx="847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折り加工：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4 1/3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仕上がり　外三つ折り　横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（紙のサイズ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10×297mm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仕上がりサイズ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10×99mm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24"/>
          <p:cNvSpPr/>
          <p:nvPr/>
        </p:nvSpPr>
        <p:spPr>
          <a:xfrm>
            <a:off x="1481040" y="40464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正方形/長方形 3"/>
          <p:cNvSpPr/>
          <p:nvPr/>
        </p:nvSpPr>
        <p:spPr>
          <a:xfrm>
            <a:off x="2597040" y="9782280"/>
            <a:ext cx="5621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400" spc="-1" strike="noStrike">
                <a:solidFill>
                  <a:srgbClr val="0066ff"/>
                </a:solidFill>
                <a:latin typeface="Calibri"/>
              </a:rPr>
              <a:t>●</a:t>
            </a:r>
            <a:r>
              <a:rPr b="1" lang="ja-JP" sz="1400" spc="-1" strike="noStrike">
                <a:solidFill>
                  <a:srgbClr val="0066ff"/>
                </a:solidFill>
                <a:latin typeface="Calibri"/>
              </a:rPr>
              <a:t>水色の枠線</a:t>
            </a:r>
            <a:r>
              <a:rPr b="1" lang="en-US" sz="1400" spc="-1" strike="noStrike">
                <a:solidFill>
                  <a:srgbClr val="0066ff"/>
                </a:solidFill>
                <a:latin typeface="Calibri"/>
              </a:rPr>
              <a:t>……</a:t>
            </a:r>
            <a:r>
              <a:rPr b="1" lang="ja-JP" sz="1400" spc="-1" strike="noStrike">
                <a:solidFill>
                  <a:srgbClr val="0066ff"/>
                </a:solidFill>
                <a:latin typeface="Calibri"/>
              </a:rPr>
              <a:t>切れてはいけない要素（文字やロゴ等）をいれる範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400" spc="-1" strike="noStrike">
                <a:solidFill>
                  <a:srgbClr val="cc00ff"/>
                </a:solidFill>
                <a:latin typeface="Calibri"/>
              </a:rPr>
              <a:t>●</a:t>
            </a:r>
            <a:r>
              <a:rPr b="1" lang="ja-JP" sz="1400" spc="-1" strike="noStrike">
                <a:solidFill>
                  <a:srgbClr val="cc00ff"/>
                </a:solidFill>
                <a:latin typeface="Calibri"/>
              </a:rPr>
              <a:t>ピンクの枠線</a:t>
            </a:r>
            <a:r>
              <a:rPr b="1" lang="en-US" sz="1400" spc="-1" strike="noStrike">
                <a:solidFill>
                  <a:srgbClr val="cc00ff"/>
                </a:solidFill>
                <a:latin typeface="Calibri"/>
              </a:rPr>
              <a:t>…</a:t>
            </a:r>
            <a:r>
              <a:rPr b="1" lang="ja-JP" sz="1400" spc="-1" strike="noStrike">
                <a:solidFill>
                  <a:srgbClr val="cc00ff"/>
                </a:solidFill>
                <a:latin typeface="Calibri"/>
              </a:rPr>
              <a:t>仕上がりのサイ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400" spc="-1" strike="noStrike">
                <a:solidFill>
                  <a:srgbClr val="008000"/>
                </a:solidFill>
                <a:latin typeface="Calibri"/>
              </a:rPr>
              <a:t>●</a:t>
            </a:r>
            <a:r>
              <a:rPr b="1" lang="ja-JP" sz="1400" spc="-1" strike="noStrike">
                <a:solidFill>
                  <a:srgbClr val="008000"/>
                </a:solidFill>
                <a:latin typeface="Calibri"/>
              </a:rPr>
              <a:t>みどりの枠線</a:t>
            </a:r>
            <a:r>
              <a:rPr b="1" lang="en-US" sz="1400" spc="-1" strike="noStrike">
                <a:solidFill>
                  <a:srgbClr val="008000"/>
                </a:solidFill>
                <a:latin typeface="Calibri"/>
              </a:rPr>
              <a:t>…</a:t>
            </a:r>
            <a:r>
              <a:rPr b="1" lang="ja-JP" sz="1400" spc="-1" strike="noStrike">
                <a:solidFill>
                  <a:srgbClr val="008000"/>
                </a:solidFill>
                <a:latin typeface="Calibri"/>
              </a:rPr>
              <a:t>フチなし印刷にする場合、背景を伸ばす範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正方形/長方形 3"/>
          <p:cNvSpPr/>
          <p:nvPr/>
        </p:nvSpPr>
        <p:spPr>
          <a:xfrm>
            <a:off x="8129520" y="9782280"/>
            <a:ext cx="4813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400" spc="-1" strike="noStrike">
                <a:solidFill>
                  <a:srgbClr val="ff0000"/>
                </a:solidFill>
                <a:latin typeface="Calibri"/>
              </a:rPr>
              <a:t>★★★ </a:t>
            </a:r>
            <a:r>
              <a:rPr b="1" lang="ja-JP" sz="1400" spc="-1" strike="noStrike">
                <a:solidFill>
                  <a:srgbClr val="ff0000"/>
                </a:solidFill>
                <a:latin typeface="Calibri"/>
              </a:rPr>
              <a:t>ＰＤＦに変換して入稿される場合 ★★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400" spc="-1" strike="noStrike">
                <a:solidFill>
                  <a:srgbClr val="ff0000"/>
                </a:solidFill>
                <a:latin typeface="Calibri"/>
              </a:rPr>
              <a:t>「表示」＞「スライドマスター」画面より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400" spc="-1" strike="noStrike">
                <a:solidFill>
                  <a:srgbClr val="ff0000"/>
                </a:solidFill>
                <a:latin typeface="Calibri"/>
              </a:rPr>
              <a:t>色つきのガイド線を消してから変換してください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" name="グループ化 23"/>
          <p:cNvGrpSpPr/>
          <p:nvPr/>
        </p:nvGrpSpPr>
        <p:grpSpPr>
          <a:xfrm>
            <a:off x="1922400" y="1057320"/>
            <a:ext cx="11715840" cy="8551800"/>
            <a:chOff x="1922400" y="1057320"/>
            <a:chExt cx="11715840" cy="8551800"/>
          </a:xfrm>
        </p:grpSpPr>
        <p:cxnSp>
          <p:nvCxnSpPr>
            <p:cNvPr id="5" name="直線矢印コネクタ 59"/>
            <p:cNvCxnSpPr/>
            <p:nvPr/>
          </p:nvCxnSpPr>
          <p:spPr>
            <a:xfrm>
              <a:off x="2436480" y="1301400"/>
              <a:ext cx="3564720" cy="10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6" name="テキスト ボックス 32"/>
            <p:cNvSpPr/>
            <p:nvPr/>
          </p:nvSpPr>
          <p:spPr>
            <a:xfrm>
              <a:off x="3863880" y="1057320"/>
              <a:ext cx="59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99m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" name="グループ化 18"/>
            <p:cNvGrpSpPr/>
            <p:nvPr/>
          </p:nvGrpSpPr>
          <p:grpSpPr>
            <a:xfrm>
              <a:off x="1963800" y="1089000"/>
              <a:ext cx="11674440" cy="8520120"/>
              <a:chOff x="1963800" y="1089000"/>
              <a:chExt cx="11674440" cy="8520120"/>
            </a:xfrm>
          </p:grpSpPr>
          <p:sp>
            <p:nvSpPr>
              <p:cNvPr id="8" name="直線コネクタ 68"/>
              <p:cNvSpPr/>
              <p:nvPr/>
            </p:nvSpPr>
            <p:spPr>
              <a:xfrm>
                <a:off x="5999040" y="1118880"/>
                <a:ext cx="0" cy="30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" name="直線コネクタ 69"/>
              <p:cNvSpPr/>
              <p:nvPr/>
            </p:nvSpPr>
            <p:spPr>
              <a:xfrm>
                <a:off x="9566280" y="111420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0" name="グループ化 8"/>
              <p:cNvGrpSpPr/>
              <p:nvPr/>
            </p:nvGrpSpPr>
            <p:grpSpPr>
              <a:xfrm>
                <a:off x="1963800" y="1094760"/>
                <a:ext cx="482400" cy="460080"/>
                <a:chOff x="1963800" y="1094760"/>
                <a:chExt cx="482400" cy="460080"/>
              </a:xfrm>
            </p:grpSpPr>
            <p:sp>
              <p:nvSpPr>
                <p:cNvPr id="11" name="フリーフォーム 82"/>
                <p:cNvSpPr/>
                <p:nvPr/>
              </p:nvSpPr>
              <p:spPr>
                <a:xfrm>
                  <a:off x="1963800" y="1096200"/>
                  <a:ext cx="482400" cy="349200"/>
                </a:xfrm>
                <a:custGeom>
                  <a:avLst/>
                  <a:gdLst/>
                  <a:ahLst/>
                  <a:rect l="l" t="t" r="r" b="b"/>
                  <a:pathLst>
                    <a:path w="434340" h="321945">
                      <a:moveTo>
                        <a:pt x="434340" y="0"/>
                      </a:moveTo>
                      <a:lnTo>
                        <a:pt x="434340" y="321945"/>
                      </a:lnTo>
                      <a:lnTo>
                        <a:pt x="0" y="321945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" name="フリーフォーム 83"/>
                <p:cNvSpPr/>
                <p:nvPr/>
              </p:nvSpPr>
              <p:spPr>
                <a:xfrm>
                  <a:off x="1963800" y="1094760"/>
                  <a:ext cx="360360" cy="460080"/>
                </a:xfrm>
                <a:custGeom>
                  <a:avLst/>
                  <a:gdLst/>
                  <a:ahLst/>
                  <a:rect l="l" t="t" r="r" b="b"/>
                  <a:pathLst>
                    <a:path w="434340" h="321945">
                      <a:moveTo>
                        <a:pt x="434340" y="0"/>
                      </a:moveTo>
                      <a:lnTo>
                        <a:pt x="434340" y="321945"/>
                      </a:lnTo>
                      <a:lnTo>
                        <a:pt x="0" y="321945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3" name="グループ化 8"/>
              <p:cNvGrpSpPr/>
              <p:nvPr/>
            </p:nvGrpSpPr>
            <p:grpSpPr>
              <a:xfrm>
                <a:off x="13133520" y="1089000"/>
                <a:ext cx="458640" cy="482400"/>
                <a:chOff x="13133520" y="1089000"/>
                <a:chExt cx="458640" cy="482400"/>
              </a:xfrm>
            </p:grpSpPr>
            <p:sp>
              <p:nvSpPr>
                <p:cNvPr id="14" name="フリーフォーム 80"/>
                <p:cNvSpPr/>
                <p:nvPr/>
              </p:nvSpPr>
              <p:spPr>
                <a:xfrm rot="5400000">
                  <a:off x="13175640" y="1156320"/>
                  <a:ext cx="482400" cy="347760"/>
                </a:xfrm>
                <a:custGeom>
                  <a:avLst/>
                  <a:gdLst/>
                  <a:ahLst/>
                  <a:rect l="l" t="t" r="r" b="b"/>
                  <a:pathLst>
                    <a:path w="434340" h="321945">
                      <a:moveTo>
                        <a:pt x="434340" y="0"/>
                      </a:moveTo>
                      <a:lnTo>
                        <a:pt x="434340" y="321945"/>
                      </a:lnTo>
                      <a:lnTo>
                        <a:pt x="0" y="321945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" name="フリーフォーム 81"/>
                <p:cNvSpPr/>
                <p:nvPr/>
              </p:nvSpPr>
              <p:spPr>
                <a:xfrm rot="5400000">
                  <a:off x="13182480" y="1039680"/>
                  <a:ext cx="360360" cy="458640"/>
                </a:xfrm>
                <a:custGeom>
                  <a:avLst/>
                  <a:gdLst/>
                  <a:ahLst/>
                  <a:rect l="l" t="t" r="r" b="b"/>
                  <a:pathLst>
                    <a:path w="434340" h="321945">
                      <a:moveTo>
                        <a:pt x="434340" y="0"/>
                      </a:moveTo>
                      <a:lnTo>
                        <a:pt x="434340" y="321945"/>
                      </a:lnTo>
                      <a:lnTo>
                        <a:pt x="0" y="321945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6" name="グループ化 8"/>
              <p:cNvGrpSpPr/>
              <p:nvPr/>
            </p:nvGrpSpPr>
            <p:grpSpPr>
              <a:xfrm>
                <a:off x="13155840" y="9120240"/>
                <a:ext cx="482400" cy="458640"/>
                <a:chOff x="13155840" y="9120240"/>
                <a:chExt cx="482400" cy="458640"/>
              </a:xfrm>
            </p:grpSpPr>
            <p:sp>
              <p:nvSpPr>
                <p:cNvPr id="17" name="フリーフォーム 78"/>
                <p:cNvSpPr/>
                <p:nvPr/>
              </p:nvSpPr>
              <p:spPr>
                <a:xfrm rot="10800000">
                  <a:off x="13155840" y="9229680"/>
                  <a:ext cx="482400" cy="347760"/>
                </a:xfrm>
                <a:custGeom>
                  <a:avLst/>
                  <a:gdLst/>
                  <a:ahLst/>
                  <a:rect l="l" t="t" r="r" b="b"/>
                  <a:pathLst>
                    <a:path w="434340" h="321945">
                      <a:moveTo>
                        <a:pt x="434340" y="0"/>
                      </a:moveTo>
                      <a:lnTo>
                        <a:pt x="434340" y="321945"/>
                      </a:lnTo>
                      <a:lnTo>
                        <a:pt x="0" y="321945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" name="フリーフォーム 79"/>
                <p:cNvSpPr/>
                <p:nvPr/>
              </p:nvSpPr>
              <p:spPr>
                <a:xfrm rot="10800000">
                  <a:off x="13254120" y="9120240"/>
                  <a:ext cx="360360" cy="458640"/>
                </a:xfrm>
                <a:custGeom>
                  <a:avLst/>
                  <a:gdLst/>
                  <a:ahLst/>
                  <a:rect l="l" t="t" r="r" b="b"/>
                  <a:pathLst>
                    <a:path w="434340" h="321945">
                      <a:moveTo>
                        <a:pt x="434340" y="0"/>
                      </a:moveTo>
                      <a:lnTo>
                        <a:pt x="434340" y="321945"/>
                      </a:lnTo>
                      <a:lnTo>
                        <a:pt x="0" y="321945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9" name="グループ化 8"/>
              <p:cNvGrpSpPr/>
              <p:nvPr/>
            </p:nvGrpSpPr>
            <p:grpSpPr>
              <a:xfrm>
                <a:off x="1977840" y="9126720"/>
                <a:ext cx="460080" cy="482400"/>
                <a:chOff x="1977840" y="9126720"/>
                <a:chExt cx="460080" cy="482400"/>
              </a:xfrm>
            </p:grpSpPr>
            <p:sp>
              <p:nvSpPr>
                <p:cNvPr id="20" name="フリーフォーム 76"/>
                <p:cNvSpPr/>
                <p:nvPr/>
              </p:nvSpPr>
              <p:spPr>
                <a:xfrm rot="16200000">
                  <a:off x="1912680" y="9193320"/>
                  <a:ext cx="482400" cy="349200"/>
                </a:xfrm>
                <a:custGeom>
                  <a:avLst/>
                  <a:gdLst/>
                  <a:ahLst/>
                  <a:rect l="l" t="t" r="r" b="b"/>
                  <a:pathLst>
                    <a:path w="434340" h="321945">
                      <a:moveTo>
                        <a:pt x="434340" y="0"/>
                      </a:moveTo>
                      <a:lnTo>
                        <a:pt x="434340" y="321945"/>
                      </a:lnTo>
                      <a:lnTo>
                        <a:pt x="0" y="321945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" name="フリーフォーム 77"/>
                <p:cNvSpPr/>
                <p:nvPr/>
              </p:nvSpPr>
              <p:spPr>
                <a:xfrm rot="16200000">
                  <a:off x="2027520" y="9178200"/>
                  <a:ext cx="360360" cy="460080"/>
                </a:xfrm>
                <a:custGeom>
                  <a:avLst/>
                  <a:gdLst/>
                  <a:ahLst/>
                  <a:rect l="l" t="t" r="r" b="b"/>
                  <a:pathLst>
                    <a:path w="434340" h="321945">
                      <a:moveTo>
                        <a:pt x="434340" y="0"/>
                      </a:moveTo>
                      <a:lnTo>
                        <a:pt x="434340" y="321945"/>
                      </a:lnTo>
                      <a:lnTo>
                        <a:pt x="0" y="321945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2" name="直線コネクタ 74"/>
              <p:cNvSpPr/>
              <p:nvPr/>
            </p:nvSpPr>
            <p:spPr>
              <a:xfrm>
                <a:off x="5995800" y="923940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" name="直線コネクタ 75"/>
              <p:cNvSpPr/>
              <p:nvPr/>
            </p:nvSpPr>
            <p:spPr>
              <a:xfrm>
                <a:off x="9574200" y="924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cxnSp>
          <p:nvCxnSpPr>
            <p:cNvPr id="24" name="直線矢印コネクタ 62"/>
            <p:cNvCxnSpPr/>
            <p:nvPr/>
          </p:nvCxnSpPr>
          <p:spPr>
            <a:xfrm>
              <a:off x="6000840" y="1301400"/>
              <a:ext cx="3564720" cy="10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25" name="テキスト ボックス 40"/>
            <p:cNvSpPr/>
            <p:nvPr/>
          </p:nvSpPr>
          <p:spPr>
            <a:xfrm>
              <a:off x="7588080" y="105732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99m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6" name="直線矢印コネクタ 64"/>
            <p:cNvCxnSpPr/>
            <p:nvPr/>
          </p:nvCxnSpPr>
          <p:spPr>
            <a:xfrm>
              <a:off x="9568080" y="1301400"/>
              <a:ext cx="3564720" cy="10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27" name="テキスト ボックス 43"/>
            <p:cNvSpPr/>
            <p:nvPr/>
          </p:nvSpPr>
          <p:spPr>
            <a:xfrm>
              <a:off x="11176200" y="1057320"/>
              <a:ext cx="69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99m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" name="Rectangle 23"/>
            <p:cNvSpPr/>
            <p:nvPr/>
          </p:nvSpPr>
          <p:spPr>
            <a:xfrm>
              <a:off x="1930320" y="1160280"/>
              <a:ext cx="45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ctr" pos="2700360"/>
                  <a:tab algn="r" pos="540072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天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" name="Rectangle 23"/>
            <p:cNvSpPr/>
            <p:nvPr/>
          </p:nvSpPr>
          <p:spPr>
            <a:xfrm>
              <a:off x="1922400" y="9266760"/>
              <a:ext cx="45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ctr" pos="2700360"/>
                  <a:tab algn="r" pos="540072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地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" name="グループ化 3"/>
          <p:cNvGrpSpPr/>
          <p:nvPr/>
        </p:nvGrpSpPr>
        <p:grpSpPr>
          <a:xfrm>
            <a:off x="424080" y="1447920"/>
            <a:ext cx="12810960" cy="7777080"/>
            <a:chOff x="424080" y="1447920"/>
            <a:chExt cx="12810960" cy="7777080"/>
          </a:xfrm>
        </p:grpSpPr>
        <p:grpSp>
          <p:nvGrpSpPr>
            <p:cNvPr id="31" name="グループ化 9"/>
            <p:cNvGrpSpPr/>
            <p:nvPr/>
          </p:nvGrpSpPr>
          <p:grpSpPr>
            <a:xfrm>
              <a:off x="2327400" y="1447920"/>
              <a:ext cx="10907640" cy="7777080"/>
              <a:chOff x="2327400" y="1447920"/>
              <a:chExt cx="10907640" cy="7777080"/>
            </a:xfrm>
          </p:grpSpPr>
          <p:sp>
            <p:nvSpPr>
              <p:cNvPr id="32" name="正方形/長方形 52"/>
              <p:cNvSpPr/>
              <p:nvPr/>
            </p:nvSpPr>
            <p:spPr>
              <a:xfrm>
                <a:off x="2327400" y="1447920"/>
                <a:ext cx="10907640" cy="7777080"/>
              </a:xfrm>
              <a:prstGeom prst="rect">
                <a:avLst/>
              </a:prstGeom>
              <a:noFill/>
              <a:ln w="324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1042920"/>
                    <a:tab algn="l" pos="2085840"/>
                    <a:tab algn="l" pos="3129120"/>
                    <a:tab algn="l" pos="4172040"/>
                    <a:tab algn="l" pos="5214960"/>
                    <a:tab algn="l" pos="6257880"/>
                    <a:tab algn="l" pos="7300800"/>
                    <a:tab algn="l" pos="8344080"/>
                    <a:tab algn="l" pos="9387000"/>
                    <a:tab algn="l" pos="104299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" name="正方形/長方形 53"/>
              <p:cNvSpPr/>
              <p:nvPr/>
            </p:nvSpPr>
            <p:spPr>
              <a:xfrm>
                <a:off x="2435040" y="1557360"/>
                <a:ext cx="3564000" cy="7558200"/>
              </a:xfrm>
              <a:prstGeom prst="rect">
                <a:avLst/>
              </a:prstGeom>
              <a:noFill/>
              <a:ln w="3240">
                <a:solidFill>
                  <a:srgbClr val="ff3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1042920"/>
                    <a:tab algn="l" pos="2085840"/>
                    <a:tab algn="l" pos="3129120"/>
                    <a:tab algn="l" pos="4172040"/>
                    <a:tab algn="l" pos="5214960"/>
                    <a:tab algn="l" pos="6257880"/>
                    <a:tab algn="l" pos="7300800"/>
                    <a:tab algn="l" pos="8344080"/>
                    <a:tab algn="l" pos="9387000"/>
                    <a:tab algn="l" pos="104299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" name="正方形/長方形 54"/>
              <p:cNvSpPr/>
              <p:nvPr/>
            </p:nvSpPr>
            <p:spPr>
              <a:xfrm>
                <a:off x="2543040" y="1665360"/>
                <a:ext cx="3348000" cy="7342200"/>
              </a:xfrm>
              <a:prstGeom prst="rect">
                <a:avLst/>
              </a:prstGeom>
              <a:noFill/>
              <a:ln w="3240">
                <a:solidFill>
                  <a:srgbClr val="40fff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1042920"/>
                    <a:tab algn="l" pos="2085840"/>
                    <a:tab algn="l" pos="3129120"/>
                    <a:tab algn="l" pos="4172040"/>
                    <a:tab algn="l" pos="5214960"/>
                    <a:tab algn="l" pos="6257880"/>
                    <a:tab algn="l" pos="7300800"/>
                    <a:tab algn="l" pos="8344080"/>
                    <a:tab algn="l" pos="9387000"/>
                    <a:tab algn="l" pos="104299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" name="正方形/長方形 55"/>
              <p:cNvSpPr/>
              <p:nvPr/>
            </p:nvSpPr>
            <p:spPr>
              <a:xfrm>
                <a:off x="9680760" y="1665360"/>
                <a:ext cx="3348000" cy="7342200"/>
              </a:xfrm>
              <a:prstGeom prst="rect">
                <a:avLst/>
              </a:prstGeom>
              <a:noFill/>
              <a:ln w="3240">
                <a:solidFill>
                  <a:srgbClr val="40fff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1042920"/>
                    <a:tab algn="l" pos="2085840"/>
                    <a:tab algn="l" pos="3129120"/>
                    <a:tab algn="l" pos="4172040"/>
                    <a:tab algn="l" pos="5214960"/>
                    <a:tab algn="l" pos="6257880"/>
                    <a:tab algn="l" pos="7300800"/>
                    <a:tab algn="l" pos="8344080"/>
                    <a:tab algn="l" pos="9387000"/>
                    <a:tab algn="l" pos="104299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" name="正方形/長方形 56"/>
              <p:cNvSpPr/>
              <p:nvPr/>
            </p:nvSpPr>
            <p:spPr>
              <a:xfrm>
                <a:off x="5997600" y="1557360"/>
                <a:ext cx="3564000" cy="7558200"/>
              </a:xfrm>
              <a:prstGeom prst="rect">
                <a:avLst/>
              </a:prstGeom>
              <a:noFill/>
              <a:ln w="3240">
                <a:solidFill>
                  <a:srgbClr val="ff3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1042920"/>
                    <a:tab algn="l" pos="2085840"/>
                    <a:tab algn="l" pos="3129120"/>
                    <a:tab algn="l" pos="4172040"/>
                    <a:tab algn="l" pos="5214960"/>
                    <a:tab algn="l" pos="6257880"/>
                    <a:tab algn="l" pos="7300800"/>
                    <a:tab algn="l" pos="8344080"/>
                    <a:tab algn="l" pos="9387000"/>
                    <a:tab algn="l" pos="104299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" name="正方形/長方形 57"/>
              <p:cNvSpPr/>
              <p:nvPr/>
            </p:nvSpPr>
            <p:spPr>
              <a:xfrm>
                <a:off x="9563400" y="1555560"/>
                <a:ext cx="3564000" cy="7561440"/>
              </a:xfrm>
              <a:prstGeom prst="rect">
                <a:avLst/>
              </a:prstGeom>
              <a:noFill/>
              <a:ln w="3240">
                <a:solidFill>
                  <a:srgbClr val="ff3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1042920"/>
                    <a:tab algn="l" pos="2085840"/>
                    <a:tab algn="l" pos="3129120"/>
                    <a:tab algn="l" pos="4172040"/>
                    <a:tab algn="l" pos="5214960"/>
                    <a:tab algn="l" pos="6257880"/>
                    <a:tab algn="l" pos="7300800"/>
                    <a:tab algn="l" pos="8344080"/>
                    <a:tab algn="l" pos="9387000"/>
                    <a:tab algn="l" pos="104299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" name="正方形/長方形 58"/>
              <p:cNvSpPr/>
              <p:nvPr/>
            </p:nvSpPr>
            <p:spPr>
              <a:xfrm>
                <a:off x="6113520" y="1665360"/>
                <a:ext cx="3348000" cy="7342200"/>
              </a:xfrm>
              <a:prstGeom prst="rect">
                <a:avLst/>
              </a:prstGeom>
              <a:noFill/>
              <a:ln w="3240">
                <a:solidFill>
                  <a:srgbClr val="40fff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1042920"/>
                    <a:tab algn="l" pos="2085840"/>
                    <a:tab algn="l" pos="3129120"/>
                    <a:tab algn="l" pos="4172040"/>
                    <a:tab algn="l" pos="5214960"/>
                    <a:tab algn="l" pos="6257880"/>
                    <a:tab algn="l" pos="7300800"/>
                    <a:tab algn="l" pos="8344080"/>
                    <a:tab algn="l" pos="9387000"/>
                    <a:tab algn="l" pos="104299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" name="テキスト ボックス 2"/>
            <p:cNvSpPr/>
            <p:nvPr/>
          </p:nvSpPr>
          <p:spPr>
            <a:xfrm>
              <a:off x="424080" y="2393640"/>
              <a:ext cx="1064520" cy="5904720"/>
            </a:xfrm>
            <a:prstGeom prst="rect">
              <a:avLst/>
            </a:prstGeom>
            <a:noFill/>
            <a:ln w="284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r>
                <a:rPr b="0" lang="ja-JP" sz="2000" spc="-1" strike="noStrike">
                  <a:solidFill>
                    <a:srgbClr val="00b0f0"/>
                  </a:solidFill>
                  <a:latin typeface="ＭＳ ゴシック"/>
                  <a:ea typeface="ＭＳ ゴシック"/>
                </a:rPr>
                <a:t>表面は表紙になる部分のご指示をお願い致します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r>
                <a:rPr b="0" lang="en-US" sz="1800" spc="-1" strike="noStrike">
                  <a:solidFill>
                    <a:srgbClr val="00b0f0"/>
                  </a:solidFill>
                  <a:latin typeface="ＭＳ ゴシック"/>
                  <a:ea typeface="ＭＳ ゴシック"/>
                </a:rPr>
                <a:t>※</a:t>
              </a:r>
              <a:r>
                <a:rPr b="0" lang="ja-JP" sz="1800" spc="-1" strike="noStrike">
                  <a:solidFill>
                    <a:srgbClr val="00b0f0"/>
                  </a:solidFill>
                  <a:latin typeface="ＭＳ ゴシック"/>
                  <a:ea typeface="ＭＳ ゴシック"/>
                </a:rPr>
                <a:t>トンボ外への記載、入稿時のコメント欄など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biztel</cp:lastModifiedBy>
  <dcterms:modified xsi:type="dcterms:W3CDTF">2015-08-15T05:46:11Z</dcterms:modified>
  <cp:revision>39</cp:revision>
  <dc:subject/>
  <dc:title>PowerPoint プレゼンテーション</dc:title>
</cp:coreProperties>
</file>