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004760" y="685440"/>
            <a:ext cx="484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491A011-5494-4FF9-AE9E-3EB8F26FAE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ja-JP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7A9933C-3589-4850-9ADC-43A71B7627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1403280" y="173160"/>
            <a:ext cx="78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クレジットカード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5×54m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4"/>
          <p:cNvGrpSpPr/>
          <p:nvPr/>
        </p:nvGrpSpPr>
        <p:grpSpPr>
          <a:xfrm>
            <a:off x="3346200" y="2336760"/>
            <a:ext cx="3996000" cy="2886120"/>
            <a:chOff x="3346200" y="2336760"/>
            <a:chExt cx="3996000" cy="2886120"/>
          </a:xfrm>
        </p:grpSpPr>
        <p:sp>
          <p:nvSpPr>
            <p:cNvPr id="2" name="Rectangle 23"/>
            <p:cNvSpPr/>
            <p:nvPr/>
          </p:nvSpPr>
          <p:spPr>
            <a:xfrm>
              <a:off x="3359160" y="2425320"/>
              <a:ext cx="32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天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3359160" y="4862520"/>
              <a:ext cx="32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" name="グループ化 3"/>
            <p:cNvGrpSpPr/>
            <p:nvPr/>
          </p:nvGrpSpPr>
          <p:grpSpPr>
            <a:xfrm>
              <a:off x="3346200" y="2336760"/>
              <a:ext cx="3996000" cy="2886120"/>
              <a:chOff x="3346200" y="2336760"/>
              <a:chExt cx="3996000" cy="2886120"/>
            </a:xfrm>
          </p:grpSpPr>
          <p:grpSp>
            <p:nvGrpSpPr>
              <p:cNvPr id="5" name="グループ化 17"/>
              <p:cNvGrpSpPr/>
              <p:nvPr/>
            </p:nvGrpSpPr>
            <p:grpSpPr>
              <a:xfrm>
                <a:off x="6874200" y="4754880"/>
                <a:ext cx="468000" cy="468000"/>
                <a:chOff x="6874200" y="4754880"/>
                <a:chExt cx="468000" cy="468000"/>
              </a:xfrm>
            </p:grpSpPr>
            <p:sp>
              <p:nvSpPr>
                <p:cNvPr id="6" name="フリーフォーム 51"/>
                <p:cNvSpPr/>
                <p:nvPr/>
              </p:nvSpPr>
              <p:spPr>
                <a:xfrm rot="10800000">
                  <a:off x="6874200" y="4862520"/>
                  <a:ext cx="468000" cy="36036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" name="フリーフォーム 52"/>
                <p:cNvSpPr/>
                <p:nvPr/>
              </p:nvSpPr>
              <p:spPr>
                <a:xfrm rot="10800000">
                  <a:off x="6981840" y="4754880"/>
                  <a:ext cx="360360" cy="4680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" name="グループ化 18"/>
              <p:cNvGrpSpPr/>
              <p:nvPr/>
            </p:nvGrpSpPr>
            <p:grpSpPr>
              <a:xfrm>
                <a:off x="4807440" y="4875120"/>
                <a:ext cx="1073160" cy="347760"/>
                <a:chOff x="4807440" y="4875120"/>
                <a:chExt cx="1073160" cy="347760"/>
              </a:xfrm>
            </p:grpSpPr>
            <p:sp>
              <p:nvSpPr>
                <p:cNvPr id="9" name="直線コネクタ 49"/>
                <p:cNvSpPr/>
                <p:nvPr/>
              </p:nvSpPr>
              <p:spPr>
                <a:xfrm flipH="1">
                  <a:off x="4807440" y="4959360"/>
                  <a:ext cx="107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" name="直線コネクタ 50"/>
                <p:cNvSpPr/>
                <p:nvPr/>
              </p:nvSpPr>
              <p:spPr>
                <a:xfrm>
                  <a:off x="5344920" y="4875120"/>
                  <a:ext cx="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" name="グループ化 19"/>
              <p:cNvGrpSpPr/>
              <p:nvPr/>
            </p:nvGrpSpPr>
            <p:grpSpPr>
              <a:xfrm>
                <a:off x="6994800" y="3260160"/>
                <a:ext cx="347400" cy="1044720"/>
                <a:chOff x="6994800" y="3260160"/>
                <a:chExt cx="347400" cy="1044720"/>
              </a:xfrm>
            </p:grpSpPr>
            <p:sp>
              <p:nvSpPr>
                <p:cNvPr id="12" name="直線コネクタ 45"/>
                <p:cNvSpPr/>
                <p:nvPr/>
              </p:nvSpPr>
              <p:spPr>
                <a:xfrm flipV="1">
                  <a:off x="7061040" y="3260160"/>
                  <a:ext cx="0" cy="10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直線コネクタ 46"/>
                <p:cNvSpPr/>
                <p:nvPr/>
              </p:nvSpPr>
              <p:spPr>
                <a:xfrm>
                  <a:off x="6994800" y="3782520"/>
                  <a:ext cx="34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" name="グループ化 20"/>
              <p:cNvGrpSpPr/>
              <p:nvPr/>
            </p:nvGrpSpPr>
            <p:grpSpPr>
              <a:xfrm>
                <a:off x="3346200" y="3260160"/>
                <a:ext cx="347400" cy="1044720"/>
                <a:chOff x="3346200" y="3260160"/>
                <a:chExt cx="347400" cy="1044720"/>
              </a:xfrm>
            </p:grpSpPr>
            <p:sp>
              <p:nvSpPr>
                <p:cNvPr id="15" name="直線コネクタ 43"/>
                <p:cNvSpPr/>
                <p:nvPr/>
              </p:nvSpPr>
              <p:spPr>
                <a:xfrm>
                  <a:off x="3629160" y="3260160"/>
                  <a:ext cx="0" cy="10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" name="直線コネクタ 44"/>
                <p:cNvSpPr/>
                <p:nvPr/>
              </p:nvSpPr>
              <p:spPr>
                <a:xfrm flipH="1">
                  <a:off x="3346200" y="3782520"/>
                  <a:ext cx="34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" name="グループ化 21"/>
              <p:cNvGrpSpPr/>
              <p:nvPr/>
            </p:nvGrpSpPr>
            <p:grpSpPr>
              <a:xfrm>
                <a:off x="4806360" y="2336760"/>
                <a:ext cx="1073160" cy="347760"/>
                <a:chOff x="4806360" y="2336760"/>
                <a:chExt cx="1073160" cy="347760"/>
              </a:xfrm>
            </p:grpSpPr>
            <p:sp>
              <p:nvSpPr>
                <p:cNvPr id="18" name="直線コネクタ 41"/>
                <p:cNvSpPr/>
                <p:nvPr/>
              </p:nvSpPr>
              <p:spPr>
                <a:xfrm>
                  <a:off x="4806360" y="2602080"/>
                  <a:ext cx="107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" name="直線コネクタ 42"/>
                <p:cNvSpPr/>
                <p:nvPr/>
              </p:nvSpPr>
              <p:spPr>
                <a:xfrm flipV="1">
                  <a:off x="5343840" y="2336760"/>
                  <a:ext cx="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" name="グループ化 23"/>
              <p:cNvGrpSpPr/>
              <p:nvPr/>
            </p:nvGrpSpPr>
            <p:grpSpPr>
              <a:xfrm>
                <a:off x="6874200" y="2336760"/>
                <a:ext cx="468000" cy="468000"/>
                <a:chOff x="6874200" y="2336760"/>
                <a:chExt cx="468000" cy="468000"/>
              </a:xfrm>
            </p:grpSpPr>
            <p:sp>
              <p:nvSpPr>
                <p:cNvPr id="21" name="フリーフォーム 39"/>
                <p:cNvSpPr/>
                <p:nvPr/>
              </p:nvSpPr>
              <p:spPr>
                <a:xfrm rot="5400000">
                  <a:off x="6927840" y="2390400"/>
                  <a:ext cx="468000" cy="36036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フリーフォーム 40"/>
                <p:cNvSpPr/>
                <p:nvPr/>
              </p:nvSpPr>
              <p:spPr>
                <a:xfrm rot="5400000">
                  <a:off x="6927840" y="2282760"/>
                  <a:ext cx="360360" cy="4680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" name="グループ化 28"/>
              <p:cNvGrpSpPr/>
              <p:nvPr/>
            </p:nvGrpSpPr>
            <p:grpSpPr>
              <a:xfrm>
                <a:off x="3346560" y="4754880"/>
                <a:ext cx="468000" cy="468000"/>
                <a:chOff x="3346560" y="4754880"/>
                <a:chExt cx="468000" cy="468000"/>
              </a:xfrm>
            </p:grpSpPr>
            <p:sp>
              <p:nvSpPr>
                <p:cNvPr id="24" name="フリーフォーム 37"/>
                <p:cNvSpPr/>
                <p:nvPr/>
              </p:nvSpPr>
              <p:spPr>
                <a:xfrm rot="16200000">
                  <a:off x="3292560" y="4808520"/>
                  <a:ext cx="468000" cy="36036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" name="フリーフォーム 38"/>
                <p:cNvSpPr/>
                <p:nvPr/>
              </p:nvSpPr>
              <p:spPr>
                <a:xfrm rot="16200000">
                  <a:off x="3400200" y="4808520"/>
                  <a:ext cx="360360" cy="4680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" name="グループ化 29"/>
              <p:cNvGrpSpPr/>
              <p:nvPr/>
            </p:nvGrpSpPr>
            <p:grpSpPr>
              <a:xfrm>
                <a:off x="3346560" y="2336760"/>
                <a:ext cx="468000" cy="468000"/>
                <a:chOff x="3346560" y="2336760"/>
                <a:chExt cx="468000" cy="468000"/>
              </a:xfrm>
            </p:grpSpPr>
            <p:sp>
              <p:nvSpPr>
                <p:cNvPr id="27" name="フリーフォーム 35"/>
                <p:cNvSpPr/>
                <p:nvPr/>
              </p:nvSpPr>
              <p:spPr>
                <a:xfrm>
                  <a:off x="3346560" y="2336760"/>
                  <a:ext cx="468000" cy="36036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フリーフォーム 36"/>
                <p:cNvSpPr/>
                <p:nvPr/>
              </p:nvSpPr>
              <p:spPr>
                <a:xfrm>
                  <a:off x="3346560" y="2336760"/>
                  <a:ext cx="360360" cy="4680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9" name="グループ化 54"/>
          <p:cNvGrpSpPr/>
          <p:nvPr/>
        </p:nvGrpSpPr>
        <p:grpSpPr>
          <a:xfrm>
            <a:off x="3705120" y="2703600"/>
            <a:ext cx="3276720" cy="2158920"/>
            <a:chOff x="3705120" y="2703600"/>
            <a:chExt cx="3276720" cy="2158920"/>
          </a:xfrm>
        </p:grpSpPr>
        <p:sp>
          <p:nvSpPr>
            <p:cNvPr id="30" name="正方形/長方形 13"/>
            <p:cNvSpPr/>
            <p:nvPr/>
          </p:nvSpPr>
          <p:spPr>
            <a:xfrm rot="5400000">
              <a:off x="4263840" y="2144520"/>
              <a:ext cx="2158920" cy="3276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正方形/長方形 14"/>
            <p:cNvSpPr/>
            <p:nvPr/>
          </p:nvSpPr>
          <p:spPr>
            <a:xfrm rot="5400000">
              <a:off x="4371840" y="2252160"/>
              <a:ext cx="1943280" cy="3061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正方形/長方形 15"/>
            <p:cNvSpPr/>
            <p:nvPr/>
          </p:nvSpPr>
          <p:spPr>
            <a:xfrm rot="5400000">
              <a:off x="4479840" y="2360160"/>
              <a:ext cx="1727280" cy="28450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" name="正方形/長方形 47"/>
          <p:cNvSpPr/>
          <p:nvPr/>
        </p:nvSpPr>
        <p:spPr>
          <a:xfrm>
            <a:off x="3108240" y="572148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2T09:31:57Z</dcterms:created>
  <dc:creator>川越</dc:creator>
  <dc:description/>
  <dc:language>en-US</dc:language>
  <cp:lastModifiedBy>biztel</cp:lastModifiedBy>
  <dcterms:modified xsi:type="dcterms:W3CDTF">2017-04-06T10:10:48Z</dcterms:modified>
  <cp:revision>5</cp:revision>
  <dc:subject/>
  <dc:title>PowerPoint プレゼンテーション</dc:title>
</cp:coreProperties>
</file>